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9480" y="691920"/>
            <a:ext cx="455904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37C8-5501-4753-A844-E15A9EBD84E7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02CB-4CBC-485A-93EE-49811319D06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luir explicação sobre o que é e para que serve um critério de tes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E98E7-7275-44DF-AFE7-AB036C3164B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D461-F1B6-4044-BCDD-20F13BE2BF4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FBA72-588A-4922-B56C-1B9CC7EC483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51ED-8184-4251-9412-48DE18A8022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3F837-E2E0-4022-AE92-ED5E74130C6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BB79-9A12-4DD4-86B9-0DB43229908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6199C-F476-4BC3-A07B-690FA3C68FE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A5AB-F02F-46F3-A960-A0F5DE3B61BF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16C90-2DD9-45BC-B5CF-6649BF4373E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953B3-B780-4669-892B-307FBD3440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84D40-D0C9-49FC-89E4-1C2859700B6B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7548-69FB-49A0-B36F-EF820DE1CC1D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3C45-3E6F-4151-8F31-82328B8D34F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D310-6627-4714-8C64-188D5E52D9D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9FD6D-3880-4C9B-A22F-6E8E7483D94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3DFB-462F-4DE3-8E7A-F384F6AFB153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B5BBC-6275-483F-94CF-A752B5DBA8A1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E1F3A-A6AF-4D4E-81E0-116794A34E5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ED01A-8EB4-4699-955D-E7671618BB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F7D8-65F3-4A64-8E90-671EF05F3AA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9275-FDAE-44A5-80AF-C83AF4FABE7C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E3B1E-C924-4D40-9C9D-827EBE5768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0B1CD-8E9C-4C70-A19E-62BB60ABC08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BA80F-3CD0-4460-9FFF-4ED5976A0242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D0A10-F0BF-49F5-BC1E-7DC8F546560E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8BA82-AC70-40DA-9DA8-025210C78D28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0C44-2E05-452E-8CD2-E3290509BA0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557BE-0385-4A7E-99C8-90B6F110F9A6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7728F-0B3E-426C-A4BC-1CA71BEFE0F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E5E79-8D44-4A25-BD03-E2702C724B39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97867-6764-485B-8DAA-80C78FD57AC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E080A-9B5E-4BD1-832B-97EA42A85B9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A191-397B-441E-B48B-57DE52A7E1E5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C5F5-B3B5-475B-B657-2043AEA6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33EA6-271E-425C-AFB7-E5E6D7396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7C9DF-D220-428D-873E-55C647DF6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22AA-EAF6-4AD9-988C-9F1FCF357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759F2-07ED-4605-8D5E-496C0C2B5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8F3E-101E-4162-99EE-566AA3C6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2393-6574-4622-9F60-064C69388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ACBEF-FCF0-4815-9992-9C94EB1C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5E4D1-2A43-4977-B219-377564C3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0666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51DC7-EF61-4D0D-9ADA-196AB4C4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4ED0-D544-464F-A112-1A1E4CE47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A1F-E60A-4211-BEC5-A1DDCCCC3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6C5D4-B355-4AD9-B8B3-30B0EF13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CACCE-4744-41C8-BC58-C22617EDA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548DE-F8A6-4AA3-A420-321F3DC72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35733-5EDD-49A0-B664-6D446875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CC6CB-8EBA-4A6B-8412-8554AD54B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6854-666A-4D4B-8D37-5D8D0336E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03F7-2972-498F-9515-7D355EE9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27D-7863-46BA-8BC7-4FFC3528C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66680" y="418680"/>
            <a:ext cx="777240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109C-CBD1-40CF-973E-3DB3D3930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B7E1-0678-433C-9A6F-BCCE3FEB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CCA7-B598-43AC-B881-0BB6E8B89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DF75-2B7B-4558-98AE-C658F340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0" y="13716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808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8F76-AE23-4956-8CA2-D3DC52CDD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Line 2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868686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22836-DC0F-4B78-923D-8BE83DA98528}" type="datetime5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l 28,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rodução ao Teste de Softw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C1359-9977-4929-B5F0-B89B83BC05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5"/>
          <p:cNvSpPr/>
          <p:nvPr/>
        </p:nvSpPr>
        <p:spPr>
          <a:xfrm>
            <a:off x="228600" y="6172200"/>
            <a:ext cx="3429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aseado no material do prof. Dr. Pl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ínio Vilel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59274-8E07-4EDB-9939-D1CEA486B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436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 a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560" y="4114800"/>
            <a:ext cx="4647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36858-D4D6-4FFD-AE20-DA7115291B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e Depuraçã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es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Processo de executar um programa com o objetivo de revelar a presença de defeitos; ou, falhando nesse objetivo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umentar a confianç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sobre o program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puraçã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é uma conseqüência não previsível do teste. Após revelada a presença do defeito ele deve ser encontrado e corrigi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0ADDA-59B9-4C72-B737-9F61339CFF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incipal Objetiv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refutar a assertiva de que o produto está corr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ar entradas que façam as saídas obtidas diferirem das saídas esperadas segundo a especificação (busca de um contra-exempl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 um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ocesso destrutiv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sob o ponto de vista psicológico, contrariamente às demais fases da Engenharia de Software, onde constrói-se um produ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28E71-2C81-4739-9276-49E26D53B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este bem sucedid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é aquele que revela a presença de um defeito ainda não descobert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o de Tes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2877840" y="455616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5315760" y="4556160"/>
            <a:ext cx="1881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ecificaçã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2825640" y="4425840"/>
            <a:ext cx="143532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5187960" y="4425840"/>
            <a:ext cx="2120760" cy="673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097880" y="3565440"/>
            <a:ext cx="1134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2649600" y="5622840"/>
            <a:ext cx="1770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ída Ob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5163840" y="5622840"/>
            <a:ext cx="2058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ída Espe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 flipH="1">
            <a:off x="3809880" y="4038480"/>
            <a:ext cx="60984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>
            <a:off x="4952880" y="4038480"/>
            <a:ext cx="45720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13"/>
          <p:cNvSpPr/>
          <p:nvPr/>
        </p:nvSpPr>
        <p:spPr>
          <a:xfrm>
            <a:off x="358128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14"/>
          <p:cNvSpPr/>
          <p:nvPr/>
        </p:nvSpPr>
        <p:spPr>
          <a:xfrm>
            <a:off x="6019920" y="51055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Freeform 15"/>
          <p:cNvSpPr/>
          <p:nvPr/>
        </p:nvSpPr>
        <p:spPr>
          <a:xfrm>
            <a:off x="3886200" y="3429000"/>
            <a:ext cx="3506760" cy="2859120"/>
          </a:xfrm>
          <a:custGeom>
            <a:avLst/>
            <a:gdLst>
              <a:gd name="textAreaLeft" fmla="*/ 0 w 3506760"/>
              <a:gd name="textAreaRight" fmla="*/ 3507120 w 3506760"/>
              <a:gd name="textAreaTop" fmla="*/ 0 h 2859120"/>
              <a:gd name="textAreaBottom" fmla="*/ 2859120 h 2859120"/>
            </a:gdLst>
            <a:ahLst/>
            <a:rect l="textAreaLeft" t="textAreaTop" r="textAreaRight" b="textAreaBottom"/>
            <a:pathLst>
              <a:path w="2209" h="1801">
                <a:moveTo>
                  <a:pt x="144" y="0"/>
                </a:moveTo>
                <a:lnTo>
                  <a:pt x="96" y="24"/>
                </a:lnTo>
                <a:lnTo>
                  <a:pt x="72" y="60"/>
                </a:lnTo>
                <a:lnTo>
                  <a:pt x="48" y="96"/>
                </a:lnTo>
                <a:lnTo>
                  <a:pt x="24" y="132"/>
                </a:lnTo>
                <a:lnTo>
                  <a:pt x="12" y="168"/>
                </a:lnTo>
                <a:lnTo>
                  <a:pt x="0" y="204"/>
                </a:lnTo>
                <a:lnTo>
                  <a:pt x="0" y="240"/>
                </a:lnTo>
                <a:lnTo>
                  <a:pt x="12" y="276"/>
                </a:lnTo>
                <a:lnTo>
                  <a:pt x="36" y="312"/>
                </a:lnTo>
                <a:lnTo>
                  <a:pt x="60" y="348"/>
                </a:lnTo>
                <a:lnTo>
                  <a:pt x="84" y="384"/>
                </a:lnTo>
                <a:lnTo>
                  <a:pt x="120" y="408"/>
                </a:lnTo>
                <a:lnTo>
                  <a:pt x="156" y="444"/>
                </a:lnTo>
                <a:lnTo>
                  <a:pt x="192" y="468"/>
                </a:lnTo>
                <a:lnTo>
                  <a:pt x="228" y="492"/>
                </a:lnTo>
                <a:lnTo>
                  <a:pt x="264" y="528"/>
                </a:lnTo>
                <a:lnTo>
                  <a:pt x="300" y="552"/>
                </a:lnTo>
                <a:lnTo>
                  <a:pt x="336" y="588"/>
                </a:lnTo>
                <a:lnTo>
                  <a:pt x="372" y="612"/>
                </a:lnTo>
                <a:lnTo>
                  <a:pt x="396" y="648"/>
                </a:lnTo>
                <a:lnTo>
                  <a:pt x="432" y="708"/>
                </a:lnTo>
                <a:lnTo>
                  <a:pt x="456" y="768"/>
                </a:lnTo>
                <a:lnTo>
                  <a:pt x="468" y="804"/>
                </a:lnTo>
                <a:lnTo>
                  <a:pt x="480" y="840"/>
                </a:lnTo>
                <a:lnTo>
                  <a:pt x="504" y="876"/>
                </a:lnTo>
                <a:lnTo>
                  <a:pt x="528" y="912"/>
                </a:lnTo>
                <a:lnTo>
                  <a:pt x="540" y="948"/>
                </a:lnTo>
                <a:lnTo>
                  <a:pt x="564" y="984"/>
                </a:lnTo>
                <a:lnTo>
                  <a:pt x="588" y="1044"/>
                </a:lnTo>
                <a:lnTo>
                  <a:pt x="600" y="1092"/>
                </a:lnTo>
                <a:lnTo>
                  <a:pt x="612" y="1128"/>
                </a:lnTo>
                <a:lnTo>
                  <a:pt x="624" y="1164"/>
                </a:lnTo>
                <a:lnTo>
                  <a:pt x="636" y="1200"/>
                </a:lnTo>
                <a:lnTo>
                  <a:pt x="660" y="1236"/>
                </a:lnTo>
                <a:lnTo>
                  <a:pt x="672" y="1284"/>
                </a:lnTo>
                <a:lnTo>
                  <a:pt x="672" y="1320"/>
                </a:lnTo>
                <a:lnTo>
                  <a:pt x="696" y="1356"/>
                </a:lnTo>
                <a:lnTo>
                  <a:pt x="708" y="1392"/>
                </a:lnTo>
                <a:lnTo>
                  <a:pt x="720" y="1428"/>
                </a:lnTo>
                <a:lnTo>
                  <a:pt x="732" y="1464"/>
                </a:lnTo>
                <a:lnTo>
                  <a:pt x="756" y="1500"/>
                </a:lnTo>
                <a:lnTo>
                  <a:pt x="780" y="1536"/>
                </a:lnTo>
                <a:lnTo>
                  <a:pt x="792" y="1572"/>
                </a:lnTo>
                <a:lnTo>
                  <a:pt x="816" y="1608"/>
                </a:lnTo>
                <a:lnTo>
                  <a:pt x="852" y="1644"/>
                </a:lnTo>
                <a:lnTo>
                  <a:pt x="888" y="1680"/>
                </a:lnTo>
                <a:lnTo>
                  <a:pt x="924" y="1692"/>
                </a:lnTo>
                <a:lnTo>
                  <a:pt x="984" y="1716"/>
                </a:lnTo>
                <a:lnTo>
                  <a:pt x="1044" y="1740"/>
                </a:lnTo>
                <a:lnTo>
                  <a:pt x="1092" y="1752"/>
                </a:lnTo>
                <a:lnTo>
                  <a:pt x="1152" y="1752"/>
                </a:lnTo>
                <a:lnTo>
                  <a:pt x="1200" y="1764"/>
                </a:lnTo>
                <a:lnTo>
                  <a:pt x="1248" y="1776"/>
                </a:lnTo>
                <a:lnTo>
                  <a:pt x="1284" y="1788"/>
                </a:lnTo>
                <a:lnTo>
                  <a:pt x="1320" y="1788"/>
                </a:lnTo>
                <a:lnTo>
                  <a:pt x="1356" y="1788"/>
                </a:lnTo>
                <a:lnTo>
                  <a:pt x="1392" y="1800"/>
                </a:lnTo>
                <a:lnTo>
                  <a:pt x="1428" y="1800"/>
                </a:lnTo>
                <a:lnTo>
                  <a:pt x="1464" y="1800"/>
                </a:lnTo>
                <a:lnTo>
                  <a:pt x="1500" y="1800"/>
                </a:lnTo>
                <a:lnTo>
                  <a:pt x="1536" y="1800"/>
                </a:lnTo>
                <a:lnTo>
                  <a:pt x="1572" y="1800"/>
                </a:lnTo>
                <a:lnTo>
                  <a:pt x="1620" y="1800"/>
                </a:lnTo>
                <a:lnTo>
                  <a:pt x="1656" y="1800"/>
                </a:lnTo>
                <a:lnTo>
                  <a:pt x="1692" y="1800"/>
                </a:lnTo>
                <a:lnTo>
                  <a:pt x="1728" y="1800"/>
                </a:lnTo>
                <a:lnTo>
                  <a:pt x="1764" y="1800"/>
                </a:lnTo>
                <a:lnTo>
                  <a:pt x="1800" y="1800"/>
                </a:lnTo>
                <a:lnTo>
                  <a:pt x="1836" y="1800"/>
                </a:lnTo>
                <a:lnTo>
                  <a:pt x="1872" y="1800"/>
                </a:lnTo>
                <a:lnTo>
                  <a:pt x="1908" y="1800"/>
                </a:lnTo>
                <a:lnTo>
                  <a:pt x="1944" y="1800"/>
                </a:lnTo>
                <a:lnTo>
                  <a:pt x="1980" y="1800"/>
                </a:lnTo>
                <a:lnTo>
                  <a:pt x="2016" y="1800"/>
                </a:lnTo>
                <a:lnTo>
                  <a:pt x="2052" y="1788"/>
                </a:lnTo>
                <a:lnTo>
                  <a:pt x="2088" y="1776"/>
                </a:lnTo>
                <a:lnTo>
                  <a:pt x="2124" y="1764"/>
                </a:lnTo>
                <a:lnTo>
                  <a:pt x="2160" y="1740"/>
                </a:lnTo>
                <a:lnTo>
                  <a:pt x="2184" y="1704"/>
                </a:lnTo>
                <a:lnTo>
                  <a:pt x="2208" y="1668"/>
                </a:lnTo>
                <a:lnTo>
                  <a:pt x="2208" y="1632"/>
                </a:lnTo>
                <a:lnTo>
                  <a:pt x="2208" y="1596"/>
                </a:lnTo>
                <a:lnTo>
                  <a:pt x="2208" y="1560"/>
                </a:lnTo>
                <a:lnTo>
                  <a:pt x="2208" y="1524"/>
                </a:lnTo>
                <a:lnTo>
                  <a:pt x="2196" y="1488"/>
                </a:lnTo>
                <a:lnTo>
                  <a:pt x="2160" y="1452"/>
                </a:lnTo>
                <a:lnTo>
                  <a:pt x="2136" y="1416"/>
                </a:lnTo>
                <a:lnTo>
                  <a:pt x="2100" y="1404"/>
                </a:lnTo>
                <a:lnTo>
                  <a:pt x="2064" y="1392"/>
                </a:lnTo>
                <a:lnTo>
                  <a:pt x="2028" y="1368"/>
                </a:lnTo>
                <a:lnTo>
                  <a:pt x="1992" y="1368"/>
                </a:lnTo>
                <a:lnTo>
                  <a:pt x="1956" y="1356"/>
                </a:lnTo>
                <a:lnTo>
                  <a:pt x="1920" y="1356"/>
                </a:lnTo>
                <a:lnTo>
                  <a:pt x="1884" y="1356"/>
                </a:lnTo>
                <a:lnTo>
                  <a:pt x="1848" y="1356"/>
                </a:lnTo>
                <a:lnTo>
                  <a:pt x="1812" y="1344"/>
                </a:lnTo>
                <a:lnTo>
                  <a:pt x="1776" y="1344"/>
                </a:lnTo>
                <a:lnTo>
                  <a:pt x="1740" y="1344"/>
                </a:lnTo>
                <a:lnTo>
                  <a:pt x="1704" y="1344"/>
                </a:lnTo>
                <a:lnTo>
                  <a:pt x="1668" y="1344"/>
                </a:lnTo>
                <a:lnTo>
                  <a:pt x="1632" y="1344"/>
                </a:lnTo>
                <a:lnTo>
                  <a:pt x="1596" y="1344"/>
                </a:lnTo>
                <a:lnTo>
                  <a:pt x="1560" y="1344"/>
                </a:lnTo>
                <a:lnTo>
                  <a:pt x="1524" y="1344"/>
                </a:lnTo>
                <a:lnTo>
                  <a:pt x="1488" y="1332"/>
                </a:lnTo>
                <a:lnTo>
                  <a:pt x="1452" y="1332"/>
                </a:lnTo>
                <a:lnTo>
                  <a:pt x="1416" y="1332"/>
                </a:lnTo>
                <a:lnTo>
                  <a:pt x="1380" y="1332"/>
                </a:lnTo>
                <a:lnTo>
                  <a:pt x="1344" y="1332"/>
                </a:lnTo>
                <a:lnTo>
                  <a:pt x="1308" y="1332"/>
                </a:lnTo>
                <a:lnTo>
                  <a:pt x="1272" y="1332"/>
                </a:lnTo>
                <a:lnTo>
                  <a:pt x="1236" y="1332"/>
                </a:lnTo>
                <a:lnTo>
                  <a:pt x="1200" y="1332"/>
                </a:lnTo>
                <a:lnTo>
                  <a:pt x="1164" y="1320"/>
                </a:lnTo>
                <a:lnTo>
                  <a:pt x="1128" y="1320"/>
                </a:lnTo>
                <a:lnTo>
                  <a:pt x="1092" y="1320"/>
                </a:lnTo>
                <a:lnTo>
                  <a:pt x="1032" y="1308"/>
                </a:lnTo>
                <a:lnTo>
                  <a:pt x="996" y="1308"/>
                </a:lnTo>
                <a:lnTo>
                  <a:pt x="936" y="1296"/>
                </a:lnTo>
                <a:lnTo>
                  <a:pt x="900" y="1296"/>
                </a:lnTo>
                <a:lnTo>
                  <a:pt x="864" y="1284"/>
                </a:lnTo>
                <a:lnTo>
                  <a:pt x="828" y="1272"/>
                </a:lnTo>
                <a:lnTo>
                  <a:pt x="792" y="1248"/>
                </a:lnTo>
                <a:lnTo>
                  <a:pt x="780" y="1212"/>
                </a:lnTo>
                <a:lnTo>
                  <a:pt x="756" y="1176"/>
                </a:lnTo>
                <a:lnTo>
                  <a:pt x="720" y="1152"/>
                </a:lnTo>
                <a:lnTo>
                  <a:pt x="696" y="1116"/>
                </a:lnTo>
                <a:lnTo>
                  <a:pt x="660" y="1092"/>
                </a:lnTo>
                <a:lnTo>
                  <a:pt x="648" y="1056"/>
                </a:lnTo>
                <a:lnTo>
                  <a:pt x="624" y="1020"/>
                </a:lnTo>
                <a:lnTo>
                  <a:pt x="600" y="984"/>
                </a:lnTo>
                <a:lnTo>
                  <a:pt x="588" y="948"/>
                </a:lnTo>
                <a:lnTo>
                  <a:pt x="576" y="912"/>
                </a:lnTo>
                <a:lnTo>
                  <a:pt x="564" y="876"/>
                </a:lnTo>
                <a:lnTo>
                  <a:pt x="552" y="840"/>
                </a:lnTo>
                <a:lnTo>
                  <a:pt x="540" y="804"/>
                </a:lnTo>
                <a:lnTo>
                  <a:pt x="528" y="768"/>
                </a:lnTo>
                <a:lnTo>
                  <a:pt x="516" y="732"/>
                </a:lnTo>
                <a:lnTo>
                  <a:pt x="516" y="696"/>
                </a:lnTo>
                <a:lnTo>
                  <a:pt x="504" y="660"/>
                </a:lnTo>
                <a:lnTo>
                  <a:pt x="504" y="624"/>
                </a:lnTo>
                <a:lnTo>
                  <a:pt x="516" y="588"/>
                </a:lnTo>
                <a:lnTo>
                  <a:pt x="528" y="552"/>
                </a:lnTo>
                <a:lnTo>
                  <a:pt x="564" y="528"/>
                </a:lnTo>
                <a:lnTo>
                  <a:pt x="600" y="516"/>
                </a:lnTo>
                <a:lnTo>
                  <a:pt x="636" y="504"/>
                </a:lnTo>
                <a:lnTo>
                  <a:pt x="672" y="492"/>
                </a:lnTo>
                <a:lnTo>
                  <a:pt x="708" y="480"/>
                </a:lnTo>
                <a:lnTo>
                  <a:pt x="744" y="468"/>
                </a:lnTo>
                <a:lnTo>
                  <a:pt x="780" y="456"/>
                </a:lnTo>
                <a:lnTo>
                  <a:pt x="816" y="432"/>
                </a:lnTo>
                <a:lnTo>
                  <a:pt x="840" y="396"/>
                </a:lnTo>
                <a:lnTo>
                  <a:pt x="864" y="360"/>
                </a:lnTo>
                <a:lnTo>
                  <a:pt x="888" y="324"/>
                </a:lnTo>
                <a:lnTo>
                  <a:pt x="900" y="288"/>
                </a:lnTo>
                <a:lnTo>
                  <a:pt x="900" y="252"/>
                </a:lnTo>
                <a:lnTo>
                  <a:pt x="900" y="216"/>
                </a:lnTo>
                <a:lnTo>
                  <a:pt x="900" y="156"/>
                </a:lnTo>
                <a:lnTo>
                  <a:pt x="888" y="120"/>
                </a:lnTo>
                <a:lnTo>
                  <a:pt x="852" y="108"/>
                </a:lnTo>
                <a:lnTo>
                  <a:pt x="816" y="108"/>
                </a:lnTo>
                <a:lnTo>
                  <a:pt x="780" y="108"/>
                </a:lnTo>
                <a:lnTo>
                  <a:pt x="744" y="108"/>
                </a:lnTo>
                <a:lnTo>
                  <a:pt x="708" y="96"/>
                </a:lnTo>
                <a:lnTo>
                  <a:pt x="672" y="96"/>
                </a:lnTo>
                <a:lnTo>
                  <a:pt x="636" y="96"/>
                </a:lnTo>
                <a:lnTo>
                  <a:pt x="600" y="84"/>
                </a:lnTo>
                <a:lnTo>
                  <a:pt x="564" y="72"/>
                </a:lnTo>
                <a:lnTo>
                  <a:pt x="528" y="48"/>
                </a:lnTo>
                <a:lnTo>
                  <a:pt x="492" y="48"/>
                </a:lnTo>
                <a:lnTo>
                  <a:pt x="456" y="36"/>
                </a:lnTo>
                <a:lnTo>
                  <a:pt x="420" y="36"/>
                </a:lnTo>
                <a:lnTo>
                  <a:pt x="384" y="36"/>
                </a:lnTo>
                <a:lnTo>
                  <a:pt x="348" y="24"/>
                </a:lnTo>
                <a:lnTo>
                  <a:pt x="312" y="24"/>
                </a:lnTo>
                <a:lnTo>
                  <a:pt x="276" y="24"/>
                </a:lnTo>
                <a:lnTo>
                  <a:pt x="240" y="12"/>
                </a:lnTo>
                <a:lnTo>
                  <a:pt x="204" y="12"/>
                </a:lnTo>
                <a:lnTo>
                  <a:pt x="144" y="0"/>
                </a:lnTo>
                <a:lnTo>
                  <a:pt x="14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07E9-8C0A-445F-B763-FA6F606655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TO: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 fôssemos realmente bons em nosso trabalho, não haveria defeitos para procurar; defeitos existem porque não fazemos bem o nosso trabalho. Teste e projeto de casos de teste são uma aceitação de culpa, e o tédio do teste é uma punição para nossos erro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oris Be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 verdade, Teste é uma atividade essencial em qualquer ramo da engenha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55CD-2F77-4288-9E67-7658019F4B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Exaustivo de Ent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3"/>
          <p:cNvSpPr/>
          <p:nvPr/>
        </p:nvSpPr>
        <p:spPr>
          <a:xfrm>
            <a:off x="1506600" y="2270160"/>
            <a:ext cx="1398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put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640320" y="2270160"/>
            <a:ext cx="123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5773680" y="2270160"/>
            <a:ext cx="1305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tput(z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3664080" y="2216160"/>
            <a:ext cx="1206360" cy="520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7"/>
          <p:cNvSpPr/>
          <p:nvPr/>
        </p:nvSpPr>
        <p:spPr>
          <a:xfrm>
            <a:off x="2971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8"/>
          <p:cNvSpPr/>
          <p:nvPr/>
        </p:nvSpPr>
        <p:spPr>
          <a:xfrm>
            <a:off x="4876920" y="24382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ectangle 9"/>
          <p:cNvSpPr/>
          <p:nvPr/>
        </p:nvSpPr>
        <p:spPr>
          <a:xfrm>
            <a:off x="457200" y="3413160"/>
            <a:ext cx="83059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e y   intei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utador de 32 bits = 2^32 *  2^32 = 2^64 combinaçõ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milisegundo p/ rodar e avaliar cada caso de teste = 50 bilhões de 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42100-CDF5-48A0-A56A-A6078232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Exaustivo de Caminh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6324480" y="2679840"/>
            <a:ext cx="319320" cy="212760"/>
          </a:xfrm>
          <a:custGeom>
            <a:avLst/>
            <a:gdLst>
              <a:gd name="textAreaLeft" fmla="*/ 0 w 319320"/>
              <a:gd name="textAreaRight" fmla="*/ 319680 w 319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66"/>
                </a:moveTo>
                <a:lnTo>
                  <a:pt x="100" y="0"/>
                </a:lnTo>
                <a:lnTo>
                  <a:pt x="200" y="66"/>
                </a:lnTo>
                <a:lnTo>
                  <a:pt x="100" y="133"/>
                </a:lnTo>
                <a:lnTo>
                  <a:pt x="0" y="6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Freeform 4"/>
          <p:cNvSpPr/>
          <p:nvPr/>
        </p:nvSpPr>
        <p:spPr>
          <a:xfrm>
            <a:off x="6324480" y="2679840"/>
            <a:ext cx="319320" cy="212760"/>
          </a:xfrm>
          <a:custGeom>
            <a:avLst/>
            <a:gdLst>
              <a:gd name="textAreaLeft" fmla="*/ 0 w 319320"/>
              <a:gd name="textAreaRight" fmla="*/ 319680 w 319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66"/>
                </a:moveTo>
                <a:lnTo>
                  <a:pt x="100" y="0"/>
                </a:lnTo>
                <a:lnTo>
                  <a:pt x="200" y="66"/>
                </a:lnTo>
                <a:lnTo>
                  <a:pt x="100" y="133"/>
                </a:lnTo>
                <a:lnTo>
                  <a:pt x="0" y="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Freeform 5"/>
          <p:cNvSpPr/>
          <p:nvPr/>
        </p:nvSpPr>
        <p:spPr>
          <a:xfrm>
            <a:off x="6324480" y="2203560"/>
            <a:ext cx="319320" cy="212760"/>
          </a:xfrm>
          <a:custGeom>
            <a:avLst/>
            <a:gdLst>
              <a:gd name="textAreaLeft" fmla="*/ 0 w 319320"/>
              <a:gd name="textAreaRight" fmla="*/ 319680 w 319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133"/>
                </a:moveTo>
                <a:lnTo>
                  <a:pt x="200" y="133"/>
                </a:lnTo>
                <a:lnTo>
                  <a:pt x="200" y="0"/>
                </a:lnTo>
                <a:lnTo>
                  <a:pt x="0" y="0"/>
                </a:lnTo>
                <a:lnTo>
                  <a:pt x="0" y="13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Freeform 6"/>
          <p:cNvSpPr/>
          <p:nvPr/>
        </p:nvSpPr>
        <p:spPr>
          <a:xfrm>
            <a:off x="6324480" y="2203560"/>
            <a:ext cx="319320" cy="212760"/>
          </a:xfrm>
          <a:custGeom>
            <a:avLst/>
            <a:gdLst>
              <a:gd name="textAreaLeft" fmla="*/ 0 w 319320"/>
              <a:gd name="textAreaRight" fmla="*/ 319680 w 319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133"/>
                </a:moveTo>
                <a:lnTo>
                  <a:pt x="200" y="133"/>
                </a:lnTo>
                <a:lnTo>
                  <a:pt x="200" y="0"/>
                </a:lnTo>
                <a:lnTo>
                  <a:pt x="0" y="0"/>
                </a:lnTo>
                <a:lnTo>
                  <a:pt x="0" y="1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Freeform 7"/>
          <p:cNvSpPr/>
          <p:nvPr/>
        </p:nvSpPr>
        <p:spPr>
          <a:xfrm>
            <a:off x="6303960" y="3244680"/>
            <a:ext cx="317520" cy="214560"/>
          </a:xfrm>
          <a:custGeom>
            <a:avLst/>
            <a:gdLst>
              <a:gd name="textAreaLeft" fmla="*/ 0 w 317520"/>
              <a:gd name="textAreaRight" fmla="*/ 317880 w 31752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00" h="135">
                <a:moveTo>
                  <a:pt x="0" y="67"/>
                </a:moveTo>
                <a:lnTo>
                  <a:pt x="99" y="0"/>
                </a:lnTo>
                <a:lnTo>
                  <a:pt x="199" y="67"/>
                </a:lnTo>
                <a:lnTo>
                  <a:pt x="99" y="134"/>
                </a:lnTo>
                <a:lnTo>
                  <a:pt x="0" y="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Freeform 8"/>
          <p:cNvSpPr/>
          <p:nvPr/>
        </p:nvSpPr>
        <p:spPr>
          <a:xfrm>
            <a:off x="6303960" y="3244680"/>
            <a:ext cx="317520" cy="214560"/>
          </a:xfrm>
          <a:custGeom>
            <a:avLst/>
            <a:gdLst>
              <a:gd name="textAreaLeft" fmla="*/ 0 w 317520"/>
              <a:gd name="textAreaRight" fmla="*/ 317880 w 31752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00" h="135">
                <a:moveTo>
                  <a:pt x="0" y="67"/>
                </a:moveTo>
                <a:lnTo>
                  <a:pt x="99" y="0"/>
                </a:lnTo>
                <a:lnTo>
                  <a:pt x="199" y="67"/>
                </a:lnTo>
                <a:lnTo>
                  <a:pt x="99" y="134"/>
                </a:lnTo>
                <a:lnTo>
                  <a:pt x="0" y="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Freeform 9"/>
          <p:cNvSpPr/>
          <p:nvPr/>
        </p:nvSpPr>
        <p:spPr>
          <a:xfrm>
            <a:off x="5657760" y="2984400"/>
            <a:ext cx="319320" cy="212760"/>
          </a:xfrm>
          <a:custGeom>
            <a:avLst/>
            <a:gdLst>
              <a:gd name="textAreaLeft" fmla="*/ 0 w 319320"/>
              <a:gd name="textAreaRight" fmla="*/ 319680 w 319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67"/>
                </a:moveTo>
                <a:lnTo>
                  <a:pt x="100" y="0"/>
                </a:lnTo>
                <a:lnTo>
                  <a:pt x="200" y="67"/>
                </a:lnTo>
                <a:lnTo>
                  <a:pt x="100" y="133"/>
                </a:lnTo>
                <a:lnTo>
                  <a:pt x="0" y="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Freeform 10"/>
          <p:cNvSpPr/>
          <p:nvPr/>
        </p:nvSpPr>
        <p:spPr>
          <a:xfrm>
            <a:off x="5657760" y="2984400"/>
            <a:ext cx="319320" cy="212760"/>
          </a:xfrm>
          <a:custGeom>
            <a:avLst/>
            <a:gdLst>
              <a:gd name="textAreaLeft" fmla="*/ 0 w 319320"/>
              <a:gd name="textAreaRight" fmla="*/ 319680 w 319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67"/>
                </a:moveTo>
                <a:lnTo>
                  <a:pt x="100" y="0"/>
                </a:lnTo>
                <a:lnTo>
                  <a:pt x="200" y="67"/>
                </a:lnTo>
                <a:lnTo>
                  <a:pt x="100" y="133"/>
                </a:lnTo>
                <a:lnTo>
                  <a:pt x="0" y="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Freeform 11"/>
          <p:cNvSpPr/>
          <p:nvPr/>
        </p:nvSpPr>
        <p:spPr>
          <a:xfrm>
            <a:off x="4583160" y="3630600"/>
            <a:ext cx="318960" cy="212760"/>
          </a:xfrm>
          <a:custGeom>
            <a:avLst/>
            <a:gdLst>
              <a:gd name="textAreaLeft" fmla="*/ 0 w 318960"/>
              <a:gd name="textAreaRight" fmla="*/ 319320 w 318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133"/>
                </a:moveTo>
                <a:lnTo>
                  <a:pt x="200" y="133"/>
                </a:lnTo>
                <a:lnTo>
                  <a:pt x="200" y="0"/>
                </a:lnTo>
                <a:lnTo>
                  <a:pt x="0" y="0"/>
                </a:lnTo>
                <a:lnTo>
                  <a:pt x="0" y="13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Freeform 12"/>
          <p:cNvSpPr/>
          <p:nvPr/>
        </p:nvSpPr>
        <p:spPr>
          <a:xfrm>
            <a:off x="4583160" y="3630600"/>
            <a:ext cx="318960" cy="212760"/>
          </a:xfrm>
          <a:custGeom>
            <a:avLst/>
            <a:gdLst>
              <a:gd name="textAreaLeft" fmla="*/ 0 w 318960"/>
              <a:gd name="textAreaRight" fmla="*/ 319320 w 318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133"/>
                </a:moveTo>
                <a:lnTo>
                  <a:pt x="200" y="133"/>
                </a:lnTo>
                <a:lnTo>
                  <a:pt x="200" y="0"/>
                </a:lnTo>
                <a:lnTo>
                  <a:pt x="0" y="0"/>
                </a:lnTo>
                <a:lnTo>
                  <a:pt x="0" y="1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Freeform 13"/>
          <p:cNvSpPr/>
          <p:nvPr/>
        </p:nvSpPr>
        <p:spPr>
          <a:xfrm>
            <a:off x="5216400" y="3618000"/>
            <a:ext cx="319320" cy="214200"/>
          </a:xfrm>
          <a:custGeom>
            <a:avLst/>
            <a:gdLst>
              <a:gd name="textAreaLeft" fmla="*/ 0 w 319320"/>
              <a:gd name="textAreaRight" fmla="*/ 319680 w 3193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01" h="135">
                <a:moveTo>
                  <a:pt x="0" y="134"/>
                </a:moveTo>
                <a:lnTo>
                  <a:pt x="200" y="134"/>
                </a:lnTo>
                <a:lnTo>
                  <a:pt x="200" y="0"/>
                </a:lnTo>
                <a:lnTo>
                  <a:pt x="0" y="0"/>
                </a:lnTo>
                <a:lnTo>
                  <a:pt x="0" y="13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Freeform 14"/>
          <p:cNvSpPr/>
          <p:nvPr/>
        </p:nvSpPr>
        <p:spPr>
          <a:xfrm>
            <a:off x="5216400" y="3618000"/>
            <a:ext cx="319320" cy="214200"/>
          </a:xfrm>
          <a:custGeom>
            <a:avLst/>
            <a:gdLst>
              <a:gd name="textAreaLeft" fmla="*/ 0 w 319320"/>
              <a:gd name="textAreaRight" fmla="*/ 319680 w 3193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01" h="135">
                <a:moveTo>
                  <a:pt x="0" y="134"/>
                </a:moveTo>
                <a:lnTo>
                  <a:pt x="200" y="134"/>
                </a:lnTo>
                <a:lnTo>
                  <a:pt x="200" y="0"/>
                </a:lnTo>
                <a:lnTo>
                  <a:pt x="0" y="0"/>
                </a:lnTo>
                <a:lnTo>
                  <a:pt x="0" y="13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Freeform 15"/>
          <p:cNvSpPr/>
          <p:nvPr/>
        </p:nvSpPr>
        <p:spPr>
          <a:xfrm>
            <a:off x="5850000" y="3630600"/>
            <a:ext cx="318960" cy="212760"/>
          </a:xfrm>
          <a:custGeom>
            <a:avLst/>
            <a:gdLst>
              <a:gd name="textAreaLeft" fmla="*/ 0 w 318960"/>
              <a:gd name="textAreaRight" fmla="*/ 319320 w 318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133"/>
                </a:moveTo>
                <a:lnTo>
                  <a:pt x="200" y="133"/>
                </a:lnTo>
                <a:lnTo>
                  <a:pt x="200" y="0"/>
                </a:lnTo>
                <a:lnTo>
                  <a:pt x="0" y="0"/>
                </a:lnTo>
                <a:lnTo>
                  <a:pt x="0" y="13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Freeform 16"/>
          <p:cNvSpPr/>
          <p:nvPr/>
        </p:nvSpPr>
        <p:spPr>
          <a:xfrm>
            <a:off x="5850000" y="3630600"/>
            <a:ext cx="318960" cy="212760"/>
          </a:xfrm>
          <a:custGeom>
            <a:avLst/>
            <a:gdLst>
              <a:gd name="textAreaLeft" fmla="*/ 0 w 318960"/>
              <a:gd name="textAreaRight" fmla="*/ 319320 w 31896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133"/>
                </a:moveTo>
                <a:lnTo>
                  <a:pt x="200" y="133"/>
                </a:lnTo>
                <a:lnTo>
                  <a:pt x="200" y="0"/>
                </a:lnTo>
                <a:lnTo>
                  <a:pt x="0" y="0"/>
                </a:lnTo>
                <a:lnTo>
                  <a:pt x="0" y="1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Freeform 17"/>
          <p:cNvSpPr/>
          <p:nvPr/>
        </p:nvSpPr>
        <p:spPr>
          <a:xfrm>
            <a:off x="6800760" y="3630600"/>
            <a:ext cx="317520" cy="212760"/>
          </a:xfrm>
          <a:custGeom>
            <a:avLst/>
            <a:gdLst>
              <a:gd name="textAreaLeft" fmla="*/ 0 w 317520"/>
              <a:gd name="textAreaRight" fmla="*/ 317880 w 3175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0" h="134">
                <a:moveTo>
                  <a:pt x="0" y="133"/>
                </a:moveTo>
                <a:lnTo>
                  <a:pt x="199" y="133"/>
                </a:lnTo>
                <a:lnTo>
                  <a:pt x="199" y="0"/>
                </a:lnTo>
                <a:lnTo>
                  <a:pt x="0" y="0"/>
                </a:lnTo>
                <a:lnTo>
                  <a:pt x="0" y="13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Freeform 18"/>
          <p:cNvSpPr/>
          <p:nvPr/>
        </p:nvSpPr>
        <p:spPr>
          <a:xfrm>
            <a:off x="6800760" y="3630600"/>
            <a:ext cx="317520" cy="212760"/>
          </a:xfrm>
          <a:custGeom>
            <a:avLst/>
            <a:gdLst>
              <a:gd name="textAreaLeft" fmla="*/ 0 w 317520"/>
              <a:gd name="textAreaRight" fmla="*/ 317880 w 3175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0" h="134">
                <a:moveTo>
                  <a:pt x="0" y="133"/>
                </a:moveTo>
                <a:lnTo>
                  <a:pt x="199" y="133"/>
                </a:lnTo>
                <a:lnTo>
                  <a:pt x="199" y="0"/>
                </a:lnTo>
                <a:lnTo>
                  <a:pt x="0" y="0"/>
                </a:lnTo>
                <a:lnTo>
                  <a:pt x="0" y="13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Freeform 19"/>
          <p:cNvSpPr/>
          <p:nvPr/>
        </p:nvSpPr>
        <p:spPr>
          <a:xfrm>
            <a:off x="6324480" y="4989600"/>
            <a:ext cx="319320" cy="212760"/>
          </a:xfrm>
          <a:custGeom>
            <a:avLst/>
            <a:gdLst>
              <a:gd name="textAreaLeft" fmla="*/ 0 w 319320"/>
              <a:gd name="textAreaRight" fmla="*/ 319680 w 319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66"/>
                </a:moveTo>
                <a:lnTo>
                  <a:pt x="100" y="0"/>
                </a:lnTo>
                <a:lnTo>
                  <a:pt x="200" y="66"/>
                </a:lnTo>
                <a:lnTo>
                  <a:pt x="100" y="133"/>
                </a:lnTo>
                <a:lnTo>
                  <a:pt x="0" y="66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Freeform 20"/>
          <p:cNvSpPr/>
          <p:nvPr/>
        </p:nvSpPr>
        <p:spPr>
          <a:xfrm>
            <a:off x="6324480" y="4989600"/>
            <a:ext cx="319320" cy="212760"/>
          </a:xfrm>
          <a:custGeom>
            <a:avLst/>
            <a:gdLst>
              <a:gd name="textAreaLeft" fmla="*/ 0 w 319320"/>
              <a:gd name="textAreaRight" fmla="*/ 319680 w 319320"/>
              <a:gd name="textAreaTop" fmla="*/ 0 h 212760"/>
              <a:gd name="textAreaBottom" fmla="*/ 213120 h 212760"/>
            </a:gdLst>
            <a:ahLst/>
            <a:rect l="textAreaLeft" t="textAreaTop" r="textAreaRight" b="textAreaBottom"/>
            <a:pathLst>
              <a:path w="201" h="134">
                <a:moveTo>
                  <a:pt x="0" y="66"/>
                </a:moveTo>
                <a:lnTo>
                  <a:pt x="100" y="0"/>
                </a:lnTo>
                <a:lnTo>
                  <a:pt x="200" y="66"/>
                </a:lnTo>
                <a:lnTo>
                  <a:pt x="100" y="133"/>
                </a:lnTo>
                <a:lnTo>
                  <a:pt x="0" y="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Freeform 21"/>
          <p:cNvSpPr/>
          <p:nvPr/>
        </p:nvSpPr>
        <p:spPr>
          <a:xfrm>
            <a:off x="4741920" y="3841920"/>
            <a:ext cx="317520" cy="264960"/>
          </a:xfrm>
          <a:custGeom>
            <a:avLst/>
            <a:gdLst>
              <a:gd name="textAreaLeft" fmla="*/ 0 w 317520"/>
              <a:gd name="textAreaRight" fmla="*/ 317880 w 31752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200" h="167">
                <a:moveTo>
                  <a:pt x="0" y="0"/>
                </a:moveTo>
                <a:lnTo>
                  <a:pt x="0" y="166"/>
                </a:lnTo>
                <a:lnTo>
                  <a:pt x="199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Freeform 22"/>
          <p:cNvSpPr/>
          <p:nvPr/>
        </p:nvSpPr>
        <p:spPr>
          <a:xfrm>
            <a:off x="5035680" y="40957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Freeform 23"/>
          <p:cNvSpPr/>
          <p:nvPr/>
        </p:nvSpPr>
        <p:spPr>
          <a:xfrm>
            <a:off x="5035680" y="40957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Freeform 24"/>
          <p:cNvSpPr/>
          <p:nvPr/>
        </p:nvSpPr>
        <p:spPr>
          <a:xfrm>
            <a:off x="5057640" y="3830760"/>
            <a:ext cx="319320" cy="276120"/>
          </a:xfrm>
          <a:custGeom>
            <a:avLst/>
            <a:gdLst>
              <a:gd name="textAreaLeft" fmla="*/ 0 w 319320"/>
              <a:gd name="textAreaRight" fmla="*/ 319680 w 319320"/>
              <a:gd name="textAreaTop" fmla="*/ 0 h 276120"/>
              <a:gd name="textAreaBottom" fmla="*/ 276480 h 276120"/>
            </a:gdLst>
            <a:ahLst/>
            <a:rect l="textAreaLeft" t="textAreaTop" r="textAreaRight" b="textAreaBottom"/>
            <a:pathLst>
              <a:path w="201" h="174">
                <a:moveTo>
                  <a:pt x="200" y="0"/>
                </a:moveTo>
                <a:lnTo>
                  <a:pt x="200" y="173"/>
                </a:lnTo>
                <a:lnTo>
                  <a:pt x="0" y="1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Freeform 25"/>
          <p:cNvSpPr/>
          <p:nvPr/>
        </p:nvSpPr>
        <p:spPr>
          <a:xfrm>
            <a:off x="5057640" y="40957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6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Freeform 26"/>
          <p:cNvSpPr/>
          <p:nvPr/>
        </p:nvSpPr>
        <p:spPr>
          <a:xfrm>
            <a:off x="5057640" y="40957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6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Freeform 27"/>
          <p:cNvSpPr/>
          <p:nvPr/>
        </p:nvSpPr>
        <p:spPr>
          <a:xfrm>
            <a:off x="6008760" y="3841920"/>
            <a:ext cx="476280" cy="264960"/>
          </a:xfrm>
          <a:custGeom>
            <a:avLst/>
            <a:gdLst>
              <a:gd name="textAreaLeft" fmla="*/ 0 w 476280"/>
              <a:gd name="textAreaRight" fmla="*/ 476640 w 4762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300" h="167">
                <a:moveTo>
                  <a:pt x="0" y="0"/>
                </a:moveTo>
                <a:lnTo>
                  <a:pt x="0" y="166"/>
                </a:lnTo>
                <a:lnTo>
                  <a:pt x="299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Freeform 28"/>
          <p:cNvSpPr/>
          <p:nvPr/>
        </p:nvSpPr>
        <p:spPr>
          <a:xfrm>
            <a:off x="6461280" y="40957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Freeform 29"/>
          <p:cNvSpPr/>
          <p:nvPr/>
        </p:nvSpPr>
        <p:spPr>
          <a:xfrm>
            <a:off x="6461280" y="40957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Freeform 30"/>
          <p:cNvSpPr/>
          <p:nvPr/>
        </p:nvSpPr>
        <p:spPr>
          <a:xfrm>
            <a:off x="6483240" y="3841920"/>
            <a:ext cx="478080" cy="264960"/>
          </a:xfrm>
          <a:custGeom>
            <a:avLst/>
            <a:gdLst>
              <a:gd name="textAreaLeft" fmla="*/ 0 w 478080"/>
              <a:gd name="textAreaRight" fmla="*/ 478440 w 478080"/>
              <a:gd name="textAreaTop" fmla="*/ 0 h 264960"/>
              <a:gd name="textAreaBottom" fmla="*/ 265320 h 264960"/>
            </a:gdLst>
            <a:ahLst/>
            <a:rect l="textAreaLeft" t="textAreaTop" r="textAreaRight" b="textAreaBottom"/>
            <a:pathLst>
              <a:path w="301" h="167">
                <a:moveTo>
                  <a:pt x="300" y="0"/>
                </a:moveTo>
                <a:lnTo>
                  <a:pt x="300" y="166"/>
                </a:lnTo>
                <a:lnTo>
                  <a:pt x="0" y="16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Freeform 31"/>
          <p:cNvSpPr/>
          <p:nvPr/>
        </p:nvSpPr>
        <p:spPr>
          <a:xfrm>
            <a:off x="6483240" y="40957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6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Freeform 32"/>
          <p:cNvSpPr/>
          <p:nvPr/>
        </p:nvSpPr>
        <p:spPr>
          <a:xfrm>
            <a:off x="6483240" y="40957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6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Freeform 33"/>
          <p:cNvSpPr/>
          <p:nvPr/>
        </p:nvSpPr>
        <p:spPr>
          <a:xfrm>
            <a:off x="5057640" y="4105440"/>
            <a:ext cx="635040" cy="160200"/>
          </a:xfrm>
          <a:custGeom>
            <a:avLst/>
            <a:gdLst>
              <a:gd name="textAreaLeft" fmla="*/ 0 w 635040"/>
              <a:gd name="textAreaRight" fmla="*/ 635040 w 63504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400" h="101">
                <a:moveTo>
                  <a:pt x="0" y="0"/>
                </a:moveTo>
                <a:lnTo>
                  <a:pt x="0" y="100"/>
                </a:lnTo>
                <a:lnTo>
                  <a:pt x="399" y="1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Freeform 34"/>
          <p:cNvSpPr/>
          <p:nvPr/>
        </p:nvSpPr>
        <p:spPr>
          <a:xfrm>
            <a:off x="5668920" y="42530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Freeform 35"/>
          <p:cNvSpPr/>
          <p:nvPr/>
        </p:nvSpPr>
        <p:spPr>
          <a:xfrm>
            <a:off x="5668920" y="42530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Freeform 36"/>
          <p:cNvSpPr/>
          <p:nvPr/>
        </p:nvSpPr>
        <p:spPr>
          <a:xfrm>
            <a:off x="5691240" y="4105440"/>
            <a:ext cx="793800" cy="160200"/>
          </a:xfrm>
          <a:custGeom>
            <a:avLst/>
            <a:gdLst>
              <a:gd name="textAreaLeft" fmla="*/ 0 w 793800"/>
              <a:gd name="textAreaRight" fmla="*/ 794160 w 793800"/>
              <a:gd name="textAreaTop" fmla="*/ 0 h 160200"/>
              <a:gd name="textAreaBottom" fmla="*/ 160560 h 160200"/>
            </a:gdLst>
            <a:ahLst/>
            <a:rect l="textAreaLeft" t="textAreaTop" r="textAreaRight" b="textAreaBottom"/>
            <a:pathLst>
              <a:path w="500" h="101">
                <a:moveTo>
                  <a:pt x="499" y="0"/>
                </a:moveTo>
                <a:lnTo>
                  <a:pt x="499" y="100"/>
                </a:lnTo>
                <a:lnTo>
                  <a:pt x="0" y="1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Freeform 37"/>
          <p:cNvSpPr/>
          <p:nvPr/>
        </p:nvSpPr>
        <p:spPr>
          <a:xfrm>
            <a:off x="5691240" y="42530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8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Freeform 38"/>
          <p:cNvSpPr/>
          <p:nvPr/>
        </p:nvSpPr>
        <p:spPr>
          <a:xfrm>
            <a:off x="5691240" y="42530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8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Freeform 39"/>
          <p:cNvSpPr/>
          <p:nvPr/>
        </p:nvSpPr>
        <p:spPr>
          <a:xfrm>
            <a:off x="5691240" y="4264200"/>
            <a:ext cx="793800" cy="318960"/>
          </a:xfrm>
          <a:custGeom>
            <a:avLst/>
            <a:gdLst>
              <a:gd name="textAreaLeft" fmla="*/ 0 w 793800"/>
              <a:gd name="textAreaRight" fmla="*/ 794160 w 793800"/>
              <a:gd name="textAreaTop" fmla="*/ 0 h 318960"/>
              <a:gd name="textAreaBottom" fmla="*/ 319320 h 318960"/>
            </a:gdLst>
            <a:ahLst/>
            <a:rect l="textAreaLeft" t="textAreaTop" r="textAreaRight" b="textAreaBottom"/>
            <a:pathLst>
              <a:path w="500" h="201">
                <a:moveTo>
                  <a:pt x="0" y="0"/>
                </a:moveTo>
                <a:lnTo>
                  <a:pt x="0" y="200"/>
                </a:lnTo>
                <a:lnTo>
                  <a:pt x="499" y="20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reeform 40"/>
          <p:cNvSpPr/>
          <p:nvPr/>
        </p:nvSpPr>
        <p:spPr>
          <a:xfrm>
            <a:off x="6461280" y="45705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Freeform 41"/>
          <p:cNvSpPr/>
          <p:nvPr/>
        </p:nvSpPr>
        <p:spPr>
          <a:xfrm>
            <a:off x="6461280" y="45705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8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2"/>
          <p:cNvSpPr/>
          <p:nvPr/>
        </p:nvSpPr>
        <p:spPr>
          <a:xfrm>
            <a:off x="6483240" y="2417760"/>
            <a:ext cx="0" cy="262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Freeform 43"/>
          <p:cNvSpPr/>
          <p:nvPr/>
        </p:nvSpPr>
        <p:spPr>
          <a:xfrm>
            <a:off x="6473880" y="26575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Freeform 44"/>
          <p:cNvSpPr/>
          <p:nvPr/>
        </p:nvSpPr>
        <p:spPr>
          <a:xfrm>
            <a:off x="6473880" y="26575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Freeform 45"/>
          <p:cNvSpPr/>
          <p:nvPr/>
        </p:nvSpPr>
        <p:spPr>
          <a:xfrm>
            <a:off x="4888080" y="3267000"/>
            <a:ext cx="318960" cy="214560"/>
          </a:xfrm>
          <a:custGeom>
            <a:avLst/>
            <a:gdLst>
              <a:gd name="textAreaLeft" fmla="*/ 0 w 318960"/>
              <a:gd name="textAreaRight" fmla="*/ 319320 w 31896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01" h="135">
                <a:moveTo>
                  <a:pt x="0" y="67"/>
                </a:moveTo>
                <a:lnTo>
                  <a:pt x="100" y="0"/>
                </a:lnTo>
                <a:lnTo>
                  <a:pt x="200" y="67"/>
                </a:lnTo>
                <a:lnTo>
                  <a:pt x="100" y="134"/>
                </a:lnTo>
                <a:lnTo>
                  <a:pt x="0" y="67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Freeform 46"/>
          <p:cNvSpPr/>
          <p:nvPr/>
        </p:nvSpPr>
        <p:spPr>
          <a:xfrm>
            <a:off x="4888080" y="3267000"/>
            <a:ext cx="318960" cy="214560"/>
          </a:xfrm>
          <a:custGeom>
            <a:avLst/>
            <a:gdLst>
              <a:gd name="textAreaLeft" fmla="*/ 0 w 318960"/>
              <a:gd name="textAreaRight" fmla="*/ 319320 w 31896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201" h="135">
                <a:moveTo>
                  <a:pt x="0" y="67"/>
                </a:moveTo>
                <a:lnTo>
                  <a:pt x="100" y="0"/>
                </a:lnTo>
                <a:lnTo>
                  <a:pt x="200" y="67"/>
                </a:lnTo>
                <a:lnTo>
                  <a:pt x="100" y="134"/>
                </a:lnTo>
                <a:lnTo>
                  <a:pt x="0" y="67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Freeform 47"/>
          <p:cNvSpPr/>
          <p:nvPr/>
        </p:nvSpPr>
        <p:spPr>
          <a:xfrm>
            <a:off x="5208480" y="3371760"/>
            <a:ext cx="173160" cy="244440"/>
          </a:xfrm>
          <a:custGeom>
            <a:avLst/>
            <a:gdLst>
              <a:gd name="textAreaLeft" fmla="*/ 0 w 173160"/>
              <a:gd name="textAreaRight" fmla="*/ 173160 w 173160"/>
              <a:gd name="textAreaTop" fmla="*/ 0 h 244440"/>
              <a:gd name="textAreaBottom" fmla="*/ 244800 h 244440"/>
            </a:gdLst>
            <a:ahLst/>
            <a:rect l="textAreaLeft" t="textAreaTop" r="textAreaRight" b="textAreaBottom"/>
            <a:pathLst>
              <a:path w="109" h="154">
                <a:moveTo>
                  <a:pt x="0" y="0"/>
                </a:moveTo>
                <a:lnTo>
                  <a:pt x="108" y="0"/>
                </a:lnTo>
                <a:lnTo>
                  <a:pt x="108" y="15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Freeform 48"/>
          <p:cNvSpPr/>
          <p:nvPr/>
        </p:nvSpPr>
        <p:spPr>
          <a:xfrm>
            <a:off x="5369040" y="35924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Freeform 49"/>
          <p:cNvSpPr/>
          <p:nvPr/>
        </p:nvSpPr>
        <p:spPr>
          <a:xfrm>
            <a:off x="5369040" y="35924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Freeform 50"/>
          <p:cNvSpPr/>
          <p:nvPr/>
        </p:nvSpPr>
        <p:spPr>
          <a:xfrm>
            <a:off x="4745160" y="3375000"/>
            <a:ext cx="141120" cy="257040"/>
          </a:xfrm>
          <a:custGeom>
            <a:avLst/>
            <a:gdLst>
              <a:gd name="textAreaLeft" fmla="*/ 0 w 141120"/>
              <a:gd name="textAreaRight" fmla="*/ 141480 w 141120"/>
              <a:gd name="textAreaTop" fmla="*/ 0 h 257040"/>
              <a:gd name="textAreaBottom" fmla="*/ 257040 h 257040"/>
            </a:gdLst>
            <a:ahLst/>
            <a:rect l="textAreaLeft" t="textAreaTop" r="textAreaRight" b="textAreaBottom"/>
            <a:pathLst>
              <a:path w="89" h="162">
                <a:moveTo>
                  <a:pt x="88" y="0"/>
                </a:moveTo>
                <a:lnTo>
                  <a:pt x="0" y="0"/>
                </a:lnTo>
                <a:lnTo>
                  <a:pt x="0" y="161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Freeform 51"/>
          <p:cNvSpPr/>
          <p:nvPr/>
        </p:nvSpPr>
        <p:spPr>
          <a:xfrm>
            <a:off x="4732200" y="36082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9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Freeform 52"/>
          <p:cNvSpPr/>
          <p:nvPr/>
        </p:nvSpPr>
        <p:spPr>
          <a:xfrm>
            <a:off x="4732200" y="36082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9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Freeform 53"/>
          <p:cNvSpPr/>
          <p:nvPr/>
        </p:nvSpPr>
        <p:spPr>
          <a:xfrm>
            <a:off x="5973840" y="3087720"/>
            <a:ext cx="484200" cy="152280"/>
          </a:xfrm>
          <a:custGeom>
            <a:avLst/>
            <a:gdLst>
              <a:gd name="textAreaLeft" fmla="*/ 0 w 484200"/>
              <a:gd name="textAreaRight" fmla="*/ 484560 w 484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305" h="96">
                <a:moveTo>
                  <a:pt x="0" y="0"/>
                </a:moveTo>
                <a:lnTo>
                  <a:pt x="304" y="0"/>
                </a:lnTo>
                <a:lnTo>
                  <a:pt x="304" y="9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Freeform 54"/>
          <p:cNvSpPr/>
          <p:nvPr/>
        </p:nvSpPr>
        <p:spPr>
          <a:xfrm>
            <a:off x="6445080" y="32162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Freeform 55"/>
          <p:cNvSpPr/>
          <p:nvPr/>
        </p:nvSpPr>
        <p:spPr>
          <a:xfrm>
            <a:off x="6445080" y="32162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Freeform 56"/>
          <p:cNvSpPr/>
          <p:nvPr/>
        </p:nvSpPr>
        <p:spPr>
          <a:xfrm>
            <a:off x="5048280" y="3084480"/>
            <a:ext cx="595440" cy="184320"/>
          </a:xfrm>
          <a:custGeom>
            <a:avLst/>
            <a:gdLst>
              <a:gd name="textAreaLeft" fmla="*/ 0 w 595440"/>
              <a:gd name="textAreaRight" fmla="*/ 595800 w 59544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375" h="116">
                <a:moveTo>
                  <a:pt x="374" y="0"/>
                </a:moveTo>
                <a:lnTo>
                  <a:pt x="0" y="0"/>
                </a:lnTo>
                <a:lnTo>
                  <a:pt x="0" y="115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Freeform 57"/>
          <p:cNvSpPr/>
          <p:nvPr/>
        </p:nvSpPr>
        <p:spPr>
          <a:xfrm>
            <a:off x="5037120" y="32446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Freeform 58"/>
          <p:cNvSpPr/>
          <p:nvPr/>
        </p:nvSpPr>
        <p:spPr>
          <a:xfrm>
            <a:off x="5037120" y="32446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Freeform 59"/>
          <p:cNvSpPr/>
          <p:nvPr/>
        </p:nvSpPr>
        <p:spPr>
          <a:xfrm>
            <a:off x="5821200" y="2778120"/>
            <a:ext cx="505080" cy="204840"/>
          </a:xfrm>
          <a:custGeom>
            <a:avLst/>
            <a:gdLst>
              <a:gd name="textAreaLeft" fmla="*/ 0 w 505080"/>
              <a:gd name="textAreaRight" fmla="*/ 505440 w 5050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318" h="129">
                <a:moveTo>
                  <a:pt x="317" y="0"/>
                </a:moveTo>
                <a:lnTo>
                  <a:pt x="0" y="0"/>
                </a:lnTo>
                <a:lnTo>
                  <a:pt x="0" y="12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Freeform 60"/>
          <p:cNvSpPr/>
          <p:nvPr/>
        </p:nvSpPr>
        <p:spPr>
          <a:xfrm>
            <a:off x="5810400" y="2959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Freeform 61"/>
          <p:cNvSpPr/>
          <p:nvPr/>
        </p:nvSpPr>
        <p:spPr>
          <a:xfrm>
            <a:off x="5810400" y="2959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Freeform 62"/>
          <p:cNvSpPr/>
          <p:nvPr/>
        </p:nvSpPr>
        <p:spPr>
          <a:xfrm>
            <a:off x="6618240" y="3348000"/>
            <a:ext cx="345960" cy="277920"/>
          </a:xfrm>
          <a:custGeom>
            <a:avLst/>
            <a:gdLst>
              <a:gd name="textAreaLeft" fmla="*/ 0 w 345960"/>
              <a:gd name="textAreaRight" fmla="*/ 346320 w 34596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218" h="175">
                <a:moveTo>
                  <a:pt x="0" y="0"/>
                </a:moveTo>
                <a:lnTo>
                  <a:pt x="217" y="0"/>
                </a:lnTo>
                <a:lnTo>
                  <a:pt x="217" y="1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Freeform 63"/>
          <p:cNvSpPr/>
          <p:nvPr/>
        </p:nvSpPr>
        <p:spPr>
          <a:xfrm>
            <a:off x="6950160" y="36021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9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Freeform 64"/>
          <p:cNvSpPr/>
          <p:nvPr/>
        </p:nvSpPr>
        <p:spPr>
          <a:xfrm>
            <a:off x="6950160" y="36021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9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Freeform 65"/>
          <p:cNvSpPr/>
          <p:nvPr/>
        </p:nvSpPr>
        <p:spPr>
          <a:xfrm>
            <a:off x="6004080" y="3348000"/>
            <a:ext cx="298440" cy="277920"/>
          </a:xfrm>
          <a:custGeom>
            <a:avLst/>
            <a:gdLst>
              <a:gd name="textAreaLeft" fmla="*/ 0 w 298440"/>
              <a:gd name="textAreaRight" fmla="*/ 298800 w 298440"/>
              <a:gd name="textAreaTop" fmla="*/ 0 h 277920"/>
              <a:gd name="textAreaBottom" fmla="*/ 278280 h 277920"/>
            </a:gdLst>
            <a:ahLst/>
            <a:rect l="textAreaLeft" t="textAreaTop" r="textAreaRight" b="textAreaBottom"/>
            <a:pathLst>
              <a:path w="188" h="175">
                <a:moveTo>
                  <a:pt x="187" y="0"/>
                </a:moveTo>
                <a:lnTo>
                  <a:pt x="0" y="0"/>
                </a:lnTo>
                <a:lnTo>
                  <a:pt x="0" y="1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Freeform 66"/>
          <p:cNvSpPr/>
          <p:nvPr/>
        </p:nvSpPr>
        <p:spPr>
          <a:xfrm>
            <a:off x="5992920" y="36021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Freeform 67"/>
          <p:cNvSpPr/>
          <p:nvPr/>
        </p:nvSpPr>
        <p:spPr>
          <a:xfrm>
            <a:off x="5992920" y="36021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8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8"/>
          <p:cNvSpPr/>
          <p:nvPr/>
        </p:nvSpPr>
        <p:spPr>
          <a:xfrm>
            <a:off x="6662880" y="278748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reeform 69"/>
          <p:cNvSpPr/>
          <p:nvPr/>
        </p:nvSpPr>
        <p:spPr>
          <a:xfrm>
            <a:off x="7174080" y="27781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Freeform 70"/>
          <p:cNvSpPr/>
          <p:nvPr/>
        </p:nvSpPr>
        <p:spPr>
          <a:xfrm>
            <a:off x="7174080" y="277812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Freeform 71"/>
          <p:cNvSpPr/>
          <p:nvPr/>
        </p:nvSpPr>
        <p:spPr>
          <a:xfrm>
            <a:off x="6494400" y="2787480"/>
            <a:ext cx="693720" cy="1795680"/>
          </a:xfrm>
          <a:custGeom>
            <a:avLst/>
            <a:gdLst>
              <a:gd name="textAreaLeft" fmla="*/ 0 w 693720"/>
              <a:gd name="textAreaRight" fmla="*/ 694080 w 693720"/>
              <a:gd name="textAreaTop" fmla="*/ 0 h 1795680"/>
              <a:gd name="textAreaBottom" fmla="*/ 1796040 h 1795680"/>
            </a:gdLst>
            <a:ahLst/>
            <a:rect l="textAreaLeft" t="textAreaTop" r="textAreaRight" b="textAreaBottom"/>
            <a:pathLst>
              <a:path w="437" h="1131">
                <a:moveTo>
                  <a:pt x="436" y="0"/>
                </a:moveTo>
                <a:lnTo>
                  <a:pt x="436" y="1130"/>
                </a:lnTo>
                <a:lnTo>
                  <a:pt x="0" y="113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Freeform 72"/>
          <p:cNvSpPr/>
          <p:nvPr/>
        </p:nvSpPr>
        <p:spPr>
          <a:xfrm>
            <a:off x="6494400" y="45705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8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Freeform 73"/>
          <p:cNvSpPr/>
          <p:nvPr/>
        </p:nvSpPr>
        <p:spPr>
          <a:xfrm>
            <a:off x="6494400" y="457056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8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74"/>
          <p:cNvSpPr/>
          <p:nvPr/>
        </p:nvSpPr>
        <p:spPr>
          <a:xfrm>
            <a:off x="6483240" y="4591080"/>
            <a:ext cx="0" cy="379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5"/>
          <p:cNvSpPr/>
          <p:nvPr/>
        </p:nvSpPr>
        <p:spPr>
          <a:xfrm>
            <a:off x="6473880" y="4948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Freeform 76"/>
          <p:cNvSpPr/>
          <p:nvPr/>
        </p:nvSpPr>
        <p:spPr>
          <a:xfrm>
            <a:off x="6473880" y="49482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77"/>
          <p:cNvSpPr/>
          <p:nvPr/>
        </p:nvSpPr>
        <p:spPr>
          <a:xfrm>
            <a:off x="6653160" y="5097600"/>
            <a:ext cx="781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Freeform 78"/>
          <p:cNvSpPr/>
          <p:nvPr/>
        </p:nvSpPr>
        <p:spPr>
          <a:xfrm>
            <a:off x="7412040" y="50846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9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Freeform 79"/>
          <p:cNvSpPr/>
          <p:nvPr/>
        </p:nvSpPr>
        <p:spPr>
          <a:xfrm>
            <a:off x="7412040" y="508464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0" y="0"/>
                </a:moveTo>
                <a:lnTo>
                  <a:pt x="16" y="9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Freeform 80"/>
          <p:cNvSpPr/>
          <p:nvPr/>
        </p:nvSpPr>
        <p:spPr>
          <a:xfrm>
            <a:off x="6653160" y="2303640"/>
            <a:ext cx="946080" cy="2795400"/>
          </a:xfrm>
          <a:custGeom>
            <a:avLst/>
            <a:gdLst>
              <a:gd name="textAreaLeft" fmla="*/ 0 w 946080"/>
              <a:gd name="textAreaRight" fmla="*/ 946440 w 946080"/>
              <a:gd name="textAreaTop" fmla="*/ 0 h 2795400"/>
              <a:gd name="textAreaBottom" fmla="*/ 2795400 h 2795400"/>
            </a:gdLst>
            <a:ahLst/>
            <a:rect l="textAreaLeft" t="textAreaTop" r="textAreaRight" b="textAreaBottom"/>
            <a:pathLst>
              <a:path w="596" h="1761">
                <a:moveTo>
                  <a:pt x="495" y="1760"/>
                </a:moveTo>
                <a:lnTo>
                  <a:pt x="595" y="1760"/>
                </a:lnTo>
                <a:lnTo>
                  <a:pt x="595" y="0"/>
                </a:lnTo>
                <a:lnTo>
                  <a:pt x="0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Freeform 81"/>
          <p:cNvSpPr/>
          <p:nvPr/>
        </p:nvSpPr>
        <p:spPr>
          <a:xfrm>
            <a:off x="6653160" y="22906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9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Freeform 82"/>
          <p:cNvSpPr/>
          <p:nvPr/>
        </p:nvSpPr>
        <p:spPr>
          <a:xfrm>
            <a:off x="6653160" y="22906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16"/>
                </a:moveTo>
                <a:lnTo>
                  <a:pt x="0" y="9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83"/>
          <p:cNvSpPr/>
          <p:nvPr/>
        </p:nvSpPr>
        <p:spPr>
          <a:xfrm>
            <a:off x="6483240" y="522432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reeform 84"/>
          <p:cNvSpPr/>
          <p:nvPr/>
        </p:nvSpPr>
        <p:spPr>
          <a:xfrm>
            <a:off x="6473880" y="55198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85"/>
          <p:cNvSpPr/>
          <p:nvPr/>
        </p:nvSpPr>
        <p:spPr>
          <a:xfrm>
            <a:off x="6473880" y="551988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Freeform 86"/>
          <p:cNvSpPr/>
          <p:nvPr/>
        </p:nvSpPr>
        <p:spPr>
          <a:xfrm>
            <a:off x="6369120" y="5540400"/>
            <a:ext cx="236520" cy="235080"/>
          </a:xfrm>
          <a:custGeom>
            <a:avLst/>
            <a:gdLst>
              <a:gd name="textAreaLeft" fmla="*/ 0 w 236520"/>
              <a:gd name="textAreaRight" fmla="*/ 236880 w 2365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49" h="148">
                <a:moveTo>
                  <a:pt x="0" y="73"/>
                </a:moveTo>
                <a:lnTo>
                  <a:pt x="1" y="60"/>
                </a:lnTo>
                <a:lnTo>
                  <a:pt x="4" y="47"/>
                </a:lnTo>
                <a:lnTo>
                  <a:pt x="11" y="34"/>
                </a:lnTo>
                <a:lnTo>
                  <a:pt x="19" y="24"/>
                </a:lnTo>
                <a:lnTo>
                  <a:pt x="29" y="14"/>
                </a:lnTo>
                <a:lnTo>
                  <a:pt x="41" y="7"/>
                </a:lnTo>
                <a:lnTo>
                  <a:pt x="54" y="2"/>
                </a:lnTo>
                <a:lnTo>
                  <a:pt x="67" y="0"/>
                </a:lnTo>
                <a:lnTo>
                  <a:pt x="81" y="0"/>
                </a:lnTo>
                <a:lnTo>
                  <a:pt x="94" y="2"/>
                </a:lnTo>
                <a:lnTo>
                  <a:pt x="107" y="7"/>
                </a:lnTo>
                <a:lnTo>
                  <a:pt x="119" y="14"/>
                </a:lnTo>
                <a:lnTo>
                  <a:pt x="129" y="24"/>
                </a:lnTo>
                <a:lnTo>
                  <a:pt x="137" y="34"/>
                </a:lnTo>
                <a:lnTo>
                  <a:pt x="143" y="47"/>
                </a:lnTo>
                <a:lnTo>
                  <a:pt x="147" y="60"/>
                </a:lnTo>
                <a:lnTo>
                  <a:pt x="148" y="73"/>
                </a:lnTo>
                <a:lnTo>
                  <a:pt x="147" y="87"/>
                </a:lnTo>
                <a:lnTo>
                  <a:pt x="143" y="101"/>
                </a:lnTo>
                <a:lnTo>
                  <a:pt x="137" y="113"/>
                </a:lnTo>
                <a:lnTo>
                  <a:pt x="129" y="123"/>
                </a:lnTo>
                <a:lnTo>
                  <a:pt x="119" y="133"/>
                </a:lnTo>
                <a:lnTo>
                  <a:pt x="107" y="140"/>
                </a:lnTo>
                <a:lnTo>
                  <a:pt x="94" y="145"/>
                </a:lnTo>
                <a:lnTo>
                  <a:pt x="81" y="147"/>
                </a:lnTo>
                <a:lnTo>
                  <a:pt x="67" y="147"/>
                </a:lnTo>
                <a:lnTo>
                  <a:pt x="54" y="145"/>
                </a:lnTo>
                <a:lnTo>
                  <a:pt x="41" y="140"/>
                </a:lnTo>
                <a:lnTo>
                  <a:pt x="29" y="133"/>
                </a:lnTo>
                <a:lnTo>
                  <a:pt x="19" y="123"/>
                </a:lnTo>
                <a:lnTo>
                  <a:pt x="11" y="113"/>
                </a:lnTo>
                <a:lnTo>
                  <a:pt x="4" y="101"/>
                </a:lnTo>
                <a:lnTo>
                  <a:pt x="1" y="87"/>
                </a:lnTo>
                <a:lnTo>
                  <a:pt x="0" y="7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Freeform 87"/>
          <p:cNvSpPr/>
          <p:nvPr/>
        </p:nvSpPr>
        <p:spPr>
          <a:xfrm>
            <a:off x="6369120" y="5540400"/>
            <a:ext cx="236520" cy="235080"/>
          </a:xfrm>
          <a:custGeom>
            <a:avLst/>
            <a:gdLst>
              <a:gd name="textAreaLeft" fmla="*/ 0 w 236520"/>
              <a:gd name="textAreaRight" fmla="*/ 236880 w 236520"/>
              <a:gd name="textAreaTop" fmla="*/ 0 h 235080"/>
              <a:gd name="textAreaBottom" fmla="*/ 235440 h 235080"/>
            </a:gdLst>
            <a:ahLst/>
            <a:rect l="textAreaLeft" t="textAreaTop" r="textAreaRight" b="textAreaBottom"/>
            <a:pathLst>
              <a:path w="149" h="148">
                <a:moveTo>
                  <a:pt x="0" y="73"/>
                </a:moveTo>
                <a:lnTo>
                  <a:pt x="1" y="60"/>
                </a:lnTo>
                <a:lnTo>
                  <a:pt x="4" y="47"/>
                </a:lnTo>
                <a:lnTo>
                  <a:pt x="11" y="34"/>
                </a:lnTo>
                <a:lnTo>
                  <a:pt x="19" y="24"/>
                </a:lnTo>
                <a:lnTo>
                  <a:pt x="29" y="14"/>
                </a:lnTo>
                <a:lnTo>
                  <a:pt x="41" y="7"/>
                </a:lnTo>
                <a:lnTo>
                  <a:pt x="54" y="2"/>
                </a:lnTo>
                <a:lnTo>
                  <a:pt x="67" y="0"/>
                </a:lnTo>
                <a:lnTo>
                  <a:pt x="81" y="0"/>
                </a:lnTo>
                <a:lnTo>
                  <a:pt x="94" y="2"/>
                </a:lnTo>
                <a:lnTo>
                  <a:pt x="107" y="7"/>
                </a:lnTo>
                <a:lnTo>
                  <a:pt x="119" y="14"/>
                </a:lnTo>
                <a:lnTo>
                  <a:pt x="129" y="24"/>
                </a:lnTo>
                <a:lnTo>
                  <a:pt x="137" y="34"/>
                </a:lnTo>
                <a:lnTo>
                  <a:pt x="143" y="47"/>
                </a:lnTo>
                <a:lnTo>
                  <a:pt x="147" y="60"/>
                </a:lnTo>
                <a:lnTo>
                  <a:pt x="148" y="73"/>
                </a:lnTo>
                <a:lnTo>
                  <a:pt x="147" y="87"/>
                </a:lnTo>
                <a:lnTo>
                  <a:pt x="143" y="101"/>
                </a:lnTo>
                <a:lnTo>
                  <a:pt x="137" y="113"/>
                </a:lnTo>
                <a:lnTo>
                  <a:pt x="129" y="123"/>
                </a:lnTo>
                <a:lnTo>
                  <a:pt x="119" y="133"/>
                </a:lnTo>
                <a:lnTo>
                  <a:pt x="107" y="140"/>
                </a:lnTo>
                <a:lnTo>
                  <a:pt x="94" y="145"/>
                </a:lnTo>
                <a:lnTo>
                  <a:pt x="81" y="147"/>
                </a:lnTo>
                <a:lnTo>
                  <a:pt x="67" y="147"/>
                </a:lnTo>
                <a:lnTo>
                  <a:pt x="54" y="145"/>
                </a:lnTo>
                <a:lnTo>
                  <a:pt x="41" y="140"/>
                </a:lnTo>
                <a:lnTo>
                  <a:pt x="29" y="133"/>
                </a:lnTo>
                <a:lnTo>
                  <a:pt x="19" y="123"/>
                </a:lnTo>
                <a:lnTo>
                  <a:pt x="11" y="113"/>
                </a:lnTo>
                <a:lnTo>
                  <a:pt x="4" y="101"/>
                </a:lnTo>
                <a:lnTo>
                  <a:pt x="1" y="87"/>
                </a:lnTo>
                <a:lnTo>
                  <a:pt x="0" y="73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Freeform 88"/>
          <p:cNvSpPr/>
          <p:nvPr/>
        </p:nvSpPr>
        <p:spPr>
          <a:xfrm>
            <a:off x="6370560" y="1684440"/>
            <a:ext cx="238320" cy="234720"/>
          </a:xfrm>
          <a:custGeom>
            <a:avLst/>
            <a:gdLst>
              <a:gd name="textAreaLeft" fmla="*/ 0 w 238320"/>
              <a:gd name="textAreaRight" fmla="*/ 238680 w 2383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50" h="148">
                <a:moveTo>
                  <a:pt x="0" y="74"/>
                </a:moveTo>
                <a:lnTo>
                  <a:pt x="1" y="60"/>
                </a:lnTo>
                <a:lnTo>
                  <a:pt x="5" y="47"/>
                </a:lnTo>
                <a:lnTo>
                  <a:pt x="11" y="34"/>
                </a:lnTo>
                <a:lnTo>
                  <a:pt x="19" y="24"/>
                </a:lnTo>
                <a:lnTo>
                  <a:pt x="29" y="14"/>
                </a:lnTo>
                <a:lnTo>
                  <a:pt x="41" y="7"/>
                </a:lnTo>
                <a:lnTo>
                  <a:pt x="54" y="2"/>
                </a:lnTo>
                <a:lnTo>
                  <a:pt x="68" y="0"/>
                </a:lnTo>
                <a:lnTo>
                  <a:pt x="81" y="0"/>
                </a:lnTo>
                <a:lnTo>
                  <a:pt x="95" y="2"/>
                </a:lnTo>
                <a:lnTo>
                  <a:pt x="108" y="7"/>
                </a:lnTo>
                <a:lnTo>
                  <a:pt x="119" y="14"/>
                </a:lnTo>
                <a:lnTo>
                  <a:pt x="130" y="24"/>
                </a:lnTo>
                <a:lnTo>
                  <a:pt x="138" y="34"/>
                </a:lnTo>
                <a:lnTo>
                  <a:pt x="144" y="47"/>
                </a:lnTo>
                <a:lnTo>
                  <a:pt x="148" y="60"/>
                </a:lnTo>
                <a:lnTo>
                  <a:pt x="149" y="74"/>
                </a:lnTo>
                <a:lnTo>
                  <a:pt x="148" y="88"/>
                </a:lnTo>
                <a:lnTo>
                  <a:pt x="144" y="100"/>
                </a:lnTo>
                <a:lnTo>
                  <a:pt x="138" y="113"/>
                </a:lnTo>
                <a:lnTo>
                  <a:pt x="130" y="123"/>
                </a:lnTo>
                <a:lnTo>
                  <a:pt x="119" y="133"/>
                </a:lnTo>
                <a:lnTo>
                  <a:pt x="108" y="140"/>
                </a:lnTo>
                <a:lnTo>
                  <a:pt x="95" y="145"/>
                </a:lnTo>
                <a:lnTo>
                  <a:pt x="81" y="147"/>
                </a:lnTo>
                <a:lnTo>
                  <a:pt x="68" y="147"/>
                </a:lnTo>
                <a:lnTo>
                  <a:pt x="54" y="145"/>
                </a:lnTo>
                <a:lnTo>
                  <a:pt x="41" y="140"/>
                </a:lnTo>
                <a:lnTo>
                  <a:pt x="29" y="133"/>
                </a:lnTo>
                <a:lnTo>
                  <a:pt x="19" y="123"/>
                </a:lnTo>
                <a:lnTo>
                  <a:pt x="11" y="113"/>
                </a:lnTo>
                <a:lnTo>
                  <a:pt x="5" y="100"/>
                </a:lnTo>
                <a:lnTo>
                  <a:pt x="1" y="88"/>
                </a:lnTo>
                <a:lnTo>
                  <a:pt x="0" y="7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89"/>
          <p:cNvSpPr/>
          <p:nvPr/>
        </p:nvSpPr>
        <p:spPr>
          <a:xfrm>
            <a:off x="6370560" y="1684440"/>
            <a:ext cx="238320" cy="234720"/>
          </a:xfrm>
          <a:custGeom>
            <a:avLst/>
            <a:gdLst>
              <a:gd name="textAreaLeft" fmla="*/ 0 w 238320"/>
              <a:gd name="textAreaRight" fmla="*/ 238680 w 23832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50" h="148">
                <a:moveTo>
                  <a:pt x="0" y="74"/>
                </a:moveTo>
                <a:lnTo>
                  <a:pt x="1" y="60"/>
                </a:lnTo>
                <a:lnTo>
                  <a:pt x="5" y="47"/>
                </a:lnTo>
                <a:lnTo>
                  <a:pt x="11" y="34"/>
                </a:lnTo>
                <a:lnTo>
                  <a:pt x="19" y="24"/>
                </a:lnTo>
                <a:lnTo>
                  <a:pt x="29" y="14"/>
                </a:lnTo>
                <a:lnTo>
                  <a:pt x="41" y="7"/>
                </a:lnTo>
                <a:lnTo>
                  <a:pt x="54" y="2"/>
                </a:lnTo>
                <a:lnTo>
                  <a:pt x="68" y="0"/>
                </a:lnTo>
                <a:lnTo>
                  <a:pt x="81" y="0"/>
                </a:lnTo>
                <a:lnTo>
                  <a:pt x="95" y="2"/>
                </a:lnTo>
                <a:lnTo>
                  <a:pt x="108" y="7"/>
                </a:lnTo>
                <a:lnTo>
                  <a:pt x="119" y="14"/>
                </a:lnTo>
                <a:lnTo>
                  <a:pt x="130" y="24"/>
                </a:lnTo>
                <a:lnTo>
                  <a:pt x="138" y="34"/>
                </a:lnTo>
                <a:lnTo>
                  <a:pt x="144" y="47"/>
                </a:lnTo>
                <a:lnTo>
                  <a:pt x="148" y="60"/>
                </a:lnTo>
                <a:lnTo>
                  <a:pt x="149" y="74"/>
                </a:lnTo>
                <a:lnTo>
                  <a:pt x="148" y="88"/>
                </a:lnTo>
                <a:lnTo>
                  <a:pt x="144" y="100"/>
                </a:lnTo>
                <a:lnTo>
                  <a:pt x="138" y="113"/>
                </a:lnTo>
                <a:lnTo>
                  <a:pt x="130" y="123"/>
                </a:lnTo>
                <a:lnTo>
                  <a:pt x="119" y="133"/>
                </a:lnTo>
                <a:lnTo>
                  <a:pt x="108" y="140"/>
                </a:lnTo>
                <a:lnTo>
                  <a:pt x="95" y="145"/>
                </a:lnTo>
                <a:lnTo>
                  <a:pt x="81" y="147"/>
                </a:lnTo>
                <a:lnTo>
                  <a:pt x="68" y="147"/>
                </a:lnTo>
                <a:lnTo>
                  <a:pt x="54" y="145"/>
                </a:lnTo>
                <a:lnTo>
                  <a:pt x="41" y="140"/>
                </a:lnTo>
                <a:lnTo>
                  <a:pt x="29" y="133"/>
                </a:lnTo>
                <a:lnTo>
                  <a:pt x="19" y="123"/>
                </a:lnTo>
                <a:lnTo>
                  <a:pt x="11" y="113"/>
                </a:lnTo>
                <a:lnTo>
                  <a:pt x="5" y="100"/>
                </a:lnTo>
                <a:lnTo>
                  <a:pt x="1" y="88"/>
                </a:lnTo>
                <a:lnTo>
                  <a:pt x="0" y="74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90"/>
          <p:cNvSpPr/>
          <p:nvPr/>
        </p:nvSpPr>
        <p:spPr>
          <a:xfrm>
            <a:off x="6483240" y="1895400"/>
            <a:ext cx="0" cy="317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Freeform 91"/>
          <p:cNvSpPr/>
          <p:nvPr/>
        </p:nvSpPr>
        <p:spPr>
          <a:xfrm>
            <a:off x="6473880" y="2190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Freeform 92"/>
          <p:cNvSpPr/>
          <p:nvPr/>
        </p:nvSpPr>
        <p:spPr>
          <a:xfrm>
            <a:off x="6473880" y="2190600"/>
            <a:ext cx="27000" cy="27000"/>
          </a:xfrm>
          <a:custGeom>
            <a:avLst/>
            <a:gdLst>
              <a:gd name="textAreaLeft" fmla="*/ 0 w 27000"/>
              <a:gd name="textAreaRight" fmla="*/ 27360 w 2700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7" h="17">
                <a:moveTo>
                  <a:pt x="16" y="0"/>
                </a:moveTo>
                <a:lnTo>
                  <a:pt x="6" y="16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93"/>
          <p:cNvSpPr/>
          <p:nvPr/>
        </p:nvSpPr>
        <p:spPr>
          <a:xfrm>
            <a:off x="6718320" y="4788000"/>
            <a:ext cx="69552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aço &lt;= 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Rectangle 94"/>
          <p:cNvSpPr/>
          <p:nvPr/>
        </p:nvSpPr>
        <p:spPr>
          <a:xfrm>
            <a:off x="6717960" y="4915080"/>
            <a:ext cx="453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vez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100"/>
          <p:cNvGrpSpPr/>
          <p:nvPr/>
        </p:nvGrpSpPr>
        <p:grpSpPr>
          <a:xfrm>
            <a:off x="1123920" y="1528920"/>
            <a:ext cx="3436920" cy="1690560"/>
            <a:chOff x="1123920" y="1528920"/>
            <a:chExt cx="3436920" cy="1690560"/>
          </a:xfrm>
        </p:grpSpPr>
        <p:sp>
          <p:nvSpPr>
            <p:cNvPr id="247" name="Freeform 95"/>
            <p:cNvSpPr/>
            <p:nvPr/>
          </p:nvSpPr>
          <p:spPr>
            <a:xfrm>
              <a:off x="1123920" y="1728720"/>
              <a:ext cx="109440" cy="1015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9" h="64">
                  <a:moveTo>
                    <a:pt x="0" y="63"/>
                  </a:moveTo>
                  <a:lnTo>
                    <a:pt x="0" y="0"/>
                  </a:lnTo>
                  <a:lnTo>
                    <a:pt x="68" y="0"/>
                  </a:lnTo>
                  <a:lnTo>
                    <a:pt x="68" y="63"/>
                  </a:lnTo>
                  <a:lnTo>
                    <a:pt x="0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Rectangle 96"/>
            <p:cNvSpPr/>
            <p:nvPr/>
          </p:nvSpPr>
          <p:spPr>
            <a:xfrm>
              <a:off x="1227240" y="1528920"/>
              <a:ext cx="33336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Consiste na execu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97"/>
            <p:cNvSpPr/>
            <p:nvPr/>
          </p:nvSpPr>
          <p:spPr>
            <a:xfrm>
              <a:off x="1227240" y="1920960"/>
              <a:ext cx="32940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ção de todos cami-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Rectangle 98"/>
            <p:cNvSpPr/>
            <p:nvPr/>
          </p:nvSpPr>
          <p:spPr>
            <a:xfrm>
              <a:off x="1227240" y="2309760"/>
              <a:ext cx="28198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nhos através do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Rectangle 99"/>
            <p:cNvSpPr/>
            <p:nvPr/>
          </p:nvSpPr>
          <p:spPr>
            <a:xfrm>
              <a:off x="1228680" y="2700360"/>
              <a:ext cx="18082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ograma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" name="Group 106"/>
          <p:cNvGrpSpPr/>
          <p:nvPr/>
        </p:nvGrpSpPr>
        <p:grpSpPr>
          <a:xfrm>
            <a:off x="1123920" y="3551400"/>
            <a:ext cx="3374640" cy="919080"/>
            <a:chOff x="1123920" y="3551400"/>
            <a:chExt cx="3374640" cy="919080"/>
          </a:xfrm>
        </p:grpSpPr>
        <p:sp>
          <p:nvSpPr>
            <p:cNvPr id="253" name="Freeform 101"/>
            <p:cNvSpPr/>
            <p:nvPr/>
          </p:nvSpPr>
          <p:spPr>
            <a:xfrm>
              <a:off x="1123920" y="3751200"/>
              <a:ext cx="109440" cy="1015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9" h="64">
                  <a:moveTo>
                    <a:pt x="0" y="63"/>
                  </a:moveTo>
                  <a:lnTo>
                    <a:pt x="0" y="0"/>
                  </a:lnTo>
                  <a:lnTo>
                    <a:pt x="68" y="0"/>
                  </a:lnTo>
                  <a:lnTo>
                    <a:pt x="68" y="63"/>
                  </a:lnTo>
                  <a:lnTo>
                    <a:pt x="0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02"/>
            <p:cNvSpPr/>
            <p:nvPr/>
          </p:nvSpPr>
          <p:spPr>
            <a:xfrm>
              <a:off x="1229400" y="3551400"/>
              <a:ext cx="157032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otal de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Rectangle 103"/>
            <p:cNvSpPr/>
            <p:nvPr/>
          </p:nvSpPr>
          <p:spPr>
            <a:xfrm>
              <a:off x="2556360" y="3551400"/>
              <a:ext cx="1942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aminhos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104"/>
            <p:cNvSpPr/>
            <p:nvPr/>
          </p:nvSpPr>
          <p:spPr>
            <a:xfrm>
              <a:off x="1229760" y="3951360"/>
              <a:ext cx="1806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possívei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Rectangle 105"/>
            <p:cNvSpPr/>
            <p:nvPr/>
          </p:nvSpPr>
          <p:spPr>
            <a:xfrm>
              <a:off x="2826000" y="3951360"/>
              <a:ext cx="13539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: 2 **1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8" name="Group 111"/>
          <p:cNvGrpSpPr/>
          <p:nvPr/>
        </p:nvGrpSpPr>
        <p:grpSpPr>
          <a:xfrm>
            <a:off x="1123920" y="4800600"/>
            <a:ext cx="3457080" cy="911160"/>
            <a:chOff x="1123920" y="4800600"/>
            <a:chExt cx="3457080" cy="911160"/>
          </a:xfrm>
        </p:grpSpPr>
        <p:sp>
          <p:nvSpPr>
            <p:cNvPr id="259" name="Freeform 107"/>
            <p:cNvSpPr/>
            <p:nvPr/>
          </p:nvSpPr>
          <p:spPr>
            <a:xfrm>
              <a:off x="1123920" y="5002200"/>
              <a:ext cx="109440" cy="101520"/>
            </a:xfrm>
            <a:custGeom>
              <a:avLst/>
              <a:gdLst>
                <a:gd name="textAreaLeft" fmla="*/ 0 w 109440"/>
                <a:gd name="textAreaRight" fmla="*/ 109800 w 1094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69" h="64">
                  <a:moveTo>
                    <a:pt x="0" y="63"/>
                  </a:moveTo>
                  <a:lnTo>
                    <a:pt x="0" y="0"/>
                  </a:lnTo>
                  <a:lnTo>
                    <a:pt x="68" y="0"/>
                  </a:lnTo>
                  <a:lnTo>
                    <a:pt x="68" y="63"/>
                  </a:lnTo>
                  <a:lnTo>
                    <a:pt x="0" y="63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Rectangle 108"/>
            <p:cNvSpPr/>
            <p:nvPr/>
          </p:nvSpPr>
          <p:spPr>
            <a:xfrm>
              <a:off x="1231200" y="4800600"/>
              <a:ext cx="134784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Temp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Rectangle 109"/>
            <p:cNvSpPr/>
            <p:nvPr/>
          </p:nvSpPr>
          <p:spPr>
            <a:xfrm>
              <a:off x="2356920" y="4802040"/>
              <a:ext cx="2224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estimado: 1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Rectangle 110"/>
            <p:cNvSpPr/>
            <p:nvPr/>
          </p:nvSpPr>
          <p:spPr>
            <a:xfrm>
              <a:off x="1227240" y="5192640"/>
              <a:ext cx="26020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bilhão de anos.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FFAD8-747A-4782-9426-7967C43B6A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Exaus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69960" y="1690560"/>
            <a:ext cx="8169120" cy="28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amostra usada para o teste é sempre muito pequena em relação ao domínio tot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Incorretos  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ultados Corre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teste pode ser usado para indicar a presença de defeitos, mas não sua ausênc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1269000" y="4923000"/>
            <a:ext cx="63662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abelecimento de Critérios de T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8DBE8-6FC2-498D-86CB-F83D3F6513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érios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 Aleató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Rectangle 4"/>
          <p:cNvSpPr/>
          <p:nvPr/>
        </p:nvSpPr>
        <p:spPr>
          <a:xfrm>
            <a:off x="6230880" y="379404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Rectangle 5"/>
          <p:cNvSpPr/>
          <p:nvPr/>
        </p:nvSpPr>
        <p:spPr>
          <a:xfrm>
            <a:off x="6178680" y="3740040"/>
            <a:ext cx="14349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Oval 6"/>
          <p:cNvSpPr/>
          <p:nvPr/>
        </p:nvSpPr>
        <p:spPr>
          <a:xfrm>
            <a:off x="3740040" y="2597040"/>
            <a:ext cx="2197080" cy="14353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5562720" y="3276720"/>
            <a:ext cx="609480" cy="6858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8"/>
          <p:cNvSpPr/>
          <p:nvPr/>
        </p:nvSpPr>
        <p:spPr>
          <a:xfrm>
            <a:off x="4038480" y="3048120"/>
            <a:ext cx="2133720" cy="10666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4098960" y="2727360"/>
            <a:ext cx="13111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Times New Roman"/>
              </a:rPr>
              <a:t>Domínio de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10"/>
          <p:cNvSpPr/>
          <p:nvPr/>
        </p:nvSpPr>
        <p:spPr>
          <a:xfrm>
            <a:off x="4800600" y="3886200"/>
            <a:ext cx="1371600" cy="3808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85800" y="46483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número total de elementos do domínio de entrada = 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i testado 3/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FDA2-00FD-4FB0-9954-7C70566893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érios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 Baseado em Subdomíni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Rectangle 4"/>
          <p:cNvSpPr/>
          <p:nvPr/>
        </p:nvSpPr>
        <p:spPr>
          <a:xfrm>
            <a:off x="4859280" y="4175280"/>
            <a:ext cx="1372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5"/>
          <p:cNvSpPr/>
          <p:nvPr/>
        </p:nvSpPr>
        <p:spPr>
          <a:xfrm>
            <a:off x="4807080" y="4121280"/>
            <a:ext cx="1434960" cy="596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6"/>
          <p:cNvSpPr/>
          <p:nvPr/>
        </p:nvSpPr>
        <p:spPr>
          <a:xfrm>
            <a:off x="2368440" y="2978280"/>
            <a:ext cx="2197080" cy="1434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7"/>
          <p:cNvSpPr/>
          <p:nvPr/>
        </p:nvSpPr>
        <p:spPr>
          <a:xfrm>
            <a:off x="4191120" y="3657600"/>
            <a:ext cx="609480" cy="685800"/>
          </a:xfrm>
          <a:prstGeom prst="line">
            <a:avLst/>
          </a:prstGeom>
          <a:ln w="12600">
            <a:solidFill>
              <a:srgbClr val="5f5f5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8"/>
          <p:cNvSpPr/>
          <p:nvPr/>
        </p:nvSpPr>
        <p:spPr>
          <a:xfrm>
            <a:off x="2666880" y="3429000"/>
            <a:ext cx="2133720" cy="1066680"/>
          </a:xfrm>
          <a:prstGeom prst="line">
            <a:avLst/>
          </a:prstGeom>
          <a:ln w="12600">
            <a:solidFill>
              <a:srgbClr val="5f5f5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9"/>
          <p:cNvSpPr/>
          <p:nvPr/>
        </p:nvSpPr>
        <p:spPr>
          <a:xfrm>
            <a:off x="3429000" y="4267080"/>
            <a:ext cx="1371600" cy="381240"/>
          </a:xfrm>
          <a:prstGeom prst="line">
            <a:avLst/>
          </a:prstGeom>
          <a:ln w="12600">
            <a:solidFill>
              <a:srgbClr val="5f5f5f"/>
            </a:solidFill>
            <a:miter/>
            <a:headEnd len="med" type="oval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Freeform 10"/>
          <p:cNvSpPr/>
          <p:nvPr/>
        </p:nvSpPr>
        <p:spPr>
          <a:xfrm>
            <a:off x="2514600" y="2971800"/>
            <a:ext cx="992160" cy="1077840"/>
          </a:xfrm>
          <a:custGeom>
            <a:avLst/>
            <a:gdLst>
              <a:gd name="textAreaLeft" fmla="*/ 0 w 992160"/>
              <a:gd name="textAreaRight" fmla="*/ 992520 w 99216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625" h="679">
                <a:moveTo>
                  <a:pt x="0" y="672"/>
                </a:moveTo>
                <a:lnTo>
                  <a:pt x="65" y="678"/>
                </a:lnTo>
                <a:lnTo>
                  <a:pt x="128" y="656"/>
                </a:lnTo>
                <a:lnTo>
                  <a:pt x="159" y="656"/>
                </a:lnTo>
                <a:lnTo>
                  <a:pt x="202" y="646"/>
                </a:lnTo>
                <a:lnTo>
                  <a:pt x="244" y="635"/>
                </a:lnTo>
                <a:lnTo>
                  <a:pt x="275" y="625"/>
                </a:lnTo>
                <a:lnTo>
                  <a:pt x="307" y="614"/>
                </a:lnTo>
                <a:lnTo>
                  <a:pt x="338" y="583"/>
                </a:lnTo>
                <a:lnTo>
                  <a:pt x="370" y="551"/>
                </a:lnTo>
                <a:lnTo>
                  <a:pt x="401" y="530"/>
                </a:lnTo>
                <a:lnTo>
                  <a:pt x="423" y="509"/>
                </a:lnTo>
                <a:lnTo>
                  <a:pt x="454" y="488"/>
                </a:lnTo>
                <a:lnTo>
                  <a:pt x="475" y="456"/>
                </a:lnTo>
                <a:lnTo>
                  <a:pt x="507" y="435"/>
                </a:lnTo>
                <a:lnTo>
                  <a:pt x="528" y="404"/>
                </a:lnTo>
                <a:lnTo>
                  <a:pt x="549" y="372"/>
                </a:lnTo>
                <a:lnTo>
                  <a:pt x="559" y="341"/>
                </a:lnTo>
                <a:lnTo>
                  <a:pt x="570" y="309"/>
                </a:lnTo>
                <a:lnTo>
                  <a:pt x="580" y="277"/>
                </a:lnTo>
                <a:lnTo>
                  <a:pt x="591" y="246"/>
                </a:lnTo>
                <a:lnTo>
                  <a:pt x="601" y="214"/>
                </a:lnTo>
                <a:lnTo>
                  <a:pt x="601" y="183"/>
                </a:lnTo>
                <a:lnTo>
                  <a:pt x="601" y="151"/>
                </a:lnTo>
                <a:lnTo>
                  <a:pt x="612" y="120"/>
                </a:lnTo>
                <a:lnTo>
                  <a:pt x="612" y="98"/>
                </a:lnTo>
                <a:lnTo>
                  <a:pt x="612" y="67"/>
                </a:lnTo>
                <a:lnTo>
                  <a:pt x="612" y="35"/>
                </a:lnTo>
                <a:lnTo>
                  <a:pt x="624" y="0"/>
                </a:lnTo>
                <a:lnTo>
                  <a:pt x="624" y="48"/>
                </a:lnTo>
                <a:lnTo>
                  <a:pt x="624" y="0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Freeform 11"/>
          <p:cNvSpPr/>
          <p:nvPr/>
        </p:nvSpPr>
        <p:spPr>
          <a:xfrm>
            <a:off x="2362320" y="3695760"/>
            <a:ext cx="1677960" cy="649080"/>
          </a:xfrm>
          <a:custGeom>
            <a:avLst/>
            <a:gdLst>
              <a:gd name="textAreaLeft" fmla="*/ 0 w 1677960"/>
              <a:gd name="textAreaRight" fmla="*/ 1678320 w 1677960"/>
              <a:gd name="textAreaTop" fmla="*/ 0 h 649080"/>
              <a:gd name="textAreaBottom" fmla="*/ 649080 h 649080"/>
            </a:gdLst>
            <a:ahLst/>
            <a:rect l="textAreaLeft" t="textAreaTop" r="textAreaRight" b="textAreaBottom"/>
            <a:pathLst>
              <a:path w="1057" h="409">
                <a:moveTo>
                  <a:pt x="0" y="24"/>
                </a:moveTo>
                <a:lnTo>
                  <a:pt x="45" y="0"/>
                </a:lnTo>
                <a:lnTo>
                  <a:pt x="77" y="11"/>
                </a:lnTo>
                <a:lnTo>
                  <a:pt x="108" y="11"/>
                </a:lnTo>
                <a:lnTo>
                  <a:pt x="140" y="11"/>
                </a:lnTo>
                <a:lnTo>
                  <a:pt x="171" y="11"/>
                </a:lnTo>
                <a:lnTo>
                  <a:pt x="203" y="11"/>
                </a:lnTo>
                <a:lnTo>
                  <a:pt x="234" y="11"/>
                </a:lnTo>
                <a:lnTo>
                  <a:pt x="266" y="11"/>
                </a:lnTo>
                <a:lnTo>
                  <a:pt x="298" y="11"/>
                </a:lnTo>
                <a:lnTo>
                  <a:pt x="329" y="22"/>
                </a:lnTo>
                <a:lnTo>
                  <a:pt x="361" y="32"/>
                </a:lnTo>
                <a:lnTo>
                  <a:pt x="392" y="32"/>
                </a:lnTo>
                <a:lnTo>
                  <a:pt x="424" y="43"/>
                </a:lnTo>
                <a:lnTo>
                  <a:pt x="455" y="64"/>
                </a:lnTo>
                <a:lnTo>
                  <a:pt x="487" y="85"/>
                </a:lnTo>
                <a:lnTo>
                  <a:pt x="519" y="106"/>
                </a:lnTo>
                <a:lnTo>
                  <a:pt x="550" y="116"/>
                </a:lnTo>
                <a:lnTo>
                  <a:pt x="582" y="137"/>
                </a:lnTo>
                <a:lnTo>
                  <a:pt x="613" y="148"/>
                </a:lnTo>
                <a:lnTo>
                  <a:pt x="645" y="158"/>
                </a:lnTo>
                <a:lnTo>
                  <a:pt x="676" y="169"/>
                </a:lnTo>
                <a:lnTo>
                  <a:pt x="708" y="179"/>
                </a:lnTo>
                <a:lnTo>
                  <a:pt x="740" y="200"/>
                </a:lnTo>
                <a:lnTo>
                  <a:pt x="771" y="222"/>
                </a:lnTo>
                <a:lnTo>
                  <a:pt x="803" y="232"/>
                </a:lnTo>
                <a:lnTo>
                  <a:pt x="834" y="253"/>
                </a:lnTo>
                <a:lnTo>
                  <a:pt x="866" y="274"/>
                </a:lnTo>
                <a:lnTo>
                  <a:pt x="897" y="285"/>
                </a:lnTo>
                <a:lnTo>
                  <a:pt x="929" y="306"/>
                </a:lnTo>
                <a:lnTo>
                  <a:pt x="961" y="327"/>
                </a:lnTo>
                <a:lnTo>
                  <a:pt x="992" y="348"/>
                </a:lnTo>
                <a:lnTo>
                  <a:pt x="1013" y="379"/>
                </a:lnTo>
                <a:lnTo>
                  <a:pt x="1024" y="401"/>
                </a:lnTo>
                <a:lnTo>
                  <a:pt x="1056" y="40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Freeform 12"/>
          <p:cNvSpPr/>
          <p:nvPr/>
        </p:nvSpPr>
        <p:spPr>
          <a:xfrm>
            <a:off x="3786120" y="3048120"/>
            <a:ext cx="635040" cy="1068120"/>
          </a:xfrm>
          <a:custGeom>
            <a:avLst/>
            <a:gdLst>
              <a:gd name="textAreaLeft" fmla="*/ 0 w 635040"/>
              <a:gd name="textAreaRight" fmla="*/ 635040 w 635040"/>
              <a:gd name="textAreaTop" fmla="*/ 0 h 1068120"/>
              <a:gd name="textAreaBottom" fmla="*/ 1068480 h 1068120"/>
            </a:gdLst>
            <a:ahLst/>
            <a:rect l="textAreaLeft" t="textAreaTop" r="textAreaRight" b="textAreaBottom"/>
            <a:pathLst>
              <a:path w="400" h="673">
                <a:moveTo>
                  <a:pt x="15" y="0"/>
                </a:moveTo>
                <a:lnTo>
                  <a:pt x="0" y="50"/>
                </a:lnTo>
                <a:lnTo>
                  <a:pt x="0" y="72"/>
                </a:lnTo>
                <a:lnTo>
                  <a:pt x="0" y="103"/>
                </a:lnTo>
                <a:lnTo>
                  <a:pt x="0" y="135"/>
                </a:lnTo>
                <a:lnTo>
                  <a:pt x="0" y="166"/>
                </a:lnTo>
                <a:lnTo>
                  <a:pt x="0" y="198"/>
                </a:lnTo>
                <a:lnTo>
                  <a:pt x="11" y="229"/>
                </a:lnTo>
                <a:lnTo>
                  <a:pt x="21" y="251"/>
                </a:lnTo>
                <a:lnTo>
                  <a:pt x="32" y="282"/>
                </a:lnTo>
                <a:lnTo>
                  <a:pt x="42" y="314"/>
                </a:lnTo>
                <a:lnTo>
                  <a:pt x="53" y="345"/>
                </a:lnTo>
                <a:lnTo>
                  <a:pt x="53" y="377"/>
                </a:lnTo>
                <a:lnTo>
                  <a:pt x="64" y="408"/>
                </a:lnTo>
                <a:lnTo>
                  <a:pt x="74" y="430"/>
                </a:lnTo>
                <a:lnTo>
                  <a:pt x="95" y="461"/>
                </a:lnTo>
                <a:lnTo>
                  <a:pt x="106" y="493"/>
                </a:lnTo>
                <a:lnTo>
                  <a:pt x="127" y="524"/>
                </a:lnTo>
                <a:lnTo>
                  <a:pt x="158" y="556"/>
                </a:lnTo>
                <a:lnTo>
                  <a:pt x="190" y="587"/>
                </a:lnTo>
                <a:lnTo>
                  <a:pt x="221" y="608"/>
                </a:lnTo>
                <a:lnTo>
                  <a:pt x="242" y="630"/>
                </a:lnTo>
                <a:lnTo>
                  <a:pt x="274" y="640"/>
                </a:lnTo>
                <a:lnTo>
                  <a:pt x="306" y="661"/>
                </a:lnTo>
                <a:lnTo>
                  <a:pt x="337" y="661"/>
                </a:lnTo>
                <a:lnTo>
                  <a:pt x="369" y="672"/>
                </a:lnTo>
                <a:lnTo>
                  <a:pt x="399" y="672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13"/>
          <p:cNvSpPr/>
          <p:nvPr/>
        </p:nvSpPr>
        <p:spPr>
          <a:xfrm>
            <a:off x="609480" y="5105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am testados 3/4 - 3 subdomínios dos 4 exist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37E97-2B3F-4A1B-8D8C-5DFCED0E8E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 Critério Perfei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álido e Confiáve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lar a presença de todos os defeitos de um programa com o custo mínim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07AF-6546-43CF-A1F2-5E6B23D37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rodução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enharia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antia de Qualidade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 de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5DBD7-8937-4DBF-B03D-2735E8E323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to de Casos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to de teste pode ser tão difícil quanto o projeto do próprio produto a ser tes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cos programadores/analistas gostam de teste; menos ainda de projeto de casos de tes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F37D8-78EB-4FB7-A073-E2CECB66F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to de Casos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jeto de teste é um dos melhores mecanismos de prevenção de defei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 projeto de casos de teste é tão eficaz em identificar a presença de defeitos quanto a execução dos casos de teste projet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0110-AD3D-4DDB-B58C-472DB2DDCC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jeto de Casos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écnicas de Proje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un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rutu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ado em Er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ão técnicas complementa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questão não está em qual deles utilizar e sim como utilizá-las de forma complement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870B-1087-45AD-B322-F37F5EAF4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Func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rda o software de um ponto de vista macroscópico; detalhes de implementação não são conheci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peracionalidade das funçõe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eitação apropriada de entrad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ção correta de saída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tenção da integridade de informações extern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C8182-C69B-4640-A239-501BC112F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ste Estrutu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baseado no conhecimento da estrutura interna da implementa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ste dos detalhes procedimenta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alhes considerad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inhos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xo de programa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luxo de dad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inição e uso de variáve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D19C-8AC1-47E9-A1BB-0ABC1E2F3D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rcí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s conceitos a seguir marque aqueles que você conhece com certeza e defina-os em duas a três linh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erific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Valid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aso de t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feito, erro e falh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ritério de pa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ritério de adequação de dados de t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Critério de seleção de dados de te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Teste de unidade, teste de integr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river, st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omínio de entr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157B-4AC7-4E22-AB1B-493BC24A8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st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c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Metodologia de construção), atividade para assegurar que o processo de construção está correto. “Estamos construindo corretamente o produto?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idaçã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ividade para garantir que o produto corresponde aos requisitos. “Estamos construindo o produto correto?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F7DD8-0158-411B-B13C-C5DB6D6489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st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do de tes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tem ou itens de informação fornecidos como entrada a um programa em te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o de tes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 formado pela entrada fornecida (dado de teste) e a correspondente saída esperada segundo a especific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39770-DD89-4AB7-B6A1-4A4EAEF6D0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st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ei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ciência mecânica ou algorítmica que se ativada pode levar a uma fal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rr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É um item de informação ou estado inconsistênte do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alh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nto notável onde o programa viola suas especificaçõ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17184-0D88-4375-BEA2-B9D25CACB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st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6560" y="1447560"/>
            <a:ext cx="88707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ério de pa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eira pela qual decide-se quando o software foi suficientemente test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ério de adequação de dados de t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do um Critério C, dizemos que T (conjunto de casos de teste) é C-adequado para um programa P se e somente se cada um dos elementos requeridos por C é exercitado por pelo menos dos casos de teste de T. Como avaliar e comparar conjuntos de casos de te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itério de seleção de dados de t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o gerar conjuntos de dados de teste (casos de test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6209A-745C-4588-8CCE-E1A0B3114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ngenharia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.: Um conjunto de princípios, métodos e técnicas que tratam o software como produto de engenharia que requer planejamento, projeto, implementação e manuten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bjetivo Principal: Produzir software de alta qualidade e de baixo cus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983C-64CF-4890-B507-CCF64F7DB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st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puraçã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eqüência não previsível do teste. Após revelada a presença do defeito ele deve ser encontrado e corrig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44EA-B582-4D69-B02F-EDFABF7BC8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st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 de 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da unidade do sistema é testada individualm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 de integr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a a interface e a comunicação entre os módu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 de valida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ar a conformidade do sistema como um todo, com relação à especificaçã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67E10-C663-40C7-A633-27F0AE0FED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sta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228240" y="1523880"/>
            <a:ext cx="853452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riv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este de unidade as vezes é necessário criar-se um módulo adicional que apenas passe valores de entrada para o módulo em teste, esse é o “driver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b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teste de unidade as vezes o módulo em teste chama outros módulos auxiliares; esses módulos devem ser substituídos por rotinas com comportamento controlado; chamadas “stub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EB3B-3EDB-4C4E-AC04-C06E5B3F8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spos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ínio de entra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todos os valores que podem ser usados como entrada a um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mínio de saíd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junto de valores que podem ser obtidos como saída de um program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B45C-4D70-431C-8985-552015A62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gunta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34640" y="1676160"/>
            <a:ext cx="7728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guntas? Dúvida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9" name="Object 4"/>
          <p:cNvGraphicFramePr/>
          <p:nvPr/>
        </p:nvGraphicFramePr>
        <p:xfrm>
          <a:off x="2514600" y="2744640"/>
          <a:ext cx="3733920" cy="260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2744640"/>
                    <a:ext cx="3733920" cy="26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3EFD8-690A-4D3F-85A6-80B204B6EE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rantia de Qualidade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É um conjunto d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tividades técnica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licadas durant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d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 processo de desenvolvimen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objetivo é garantir que tanto 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cesso de desenvolvimen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anto o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duto de softw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tinjam níveis de qualidade especificad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0B61-CFBA-4B58-8C04-30D8ABE2C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alidade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ormidade com requisitos funcionais e de desempenho, padrões de desenvolvimento documentados, e características implícitas esperadas de todo software profissionalmente desenvolvi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rreç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fi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abi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7A3C0-B1CA-46D9-8E89-E94F10861C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arantia de Qualidade de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idação: Assegurar que o produto final corresponda aos requisitos do software. “Estamos construindo o produto certo?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ificação: Assegurar consistência, completitude e correção do produto em cada fase e entre fases consecutivas do ciclo de vida do software. “Estamos construindo corretamente o produto?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ste: Examina o comportamento do produto através de sua execu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0873-F453-44AD-85E4-B143744C47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çõ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ito ==&gt; Erro ==&gt; Fal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efeit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deficiência mecânica ou algorítmica que se ativada pode levar a uma falh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Err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tem de informação ou estado de execução inconsist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Falh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vento notável onde o sistema viola suas especific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90533-BD00-4041-9352-1A302462A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itos no Processo de Desenvolv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ior parte é de origem human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ão gerados na comunicação e na transformação de inform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manecem presentes nos diversos produtos de software produzidos e liberados. (10 defeitos a cada 1000 linhas de códig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maioria encontram-se em partes do código raramente execut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ço Reservado para Número de Slide 5"/>
          <p:cNvSpPr/>
          <p:nvPr/>
        </p:nvSpPr>
        <p:spPr>
          <a:xfrm>
            <a:off x="68580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B581-2291-42CF-B235-55FB8402B8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41868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eitos no Processo de Desenvolv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Quanto antes a presença do defeito for revelada, menor o custo de correção do defeito e maior a probabilidade de corrigi-lo correta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incipal causa: tradução incorreta de informaçõ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86868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ução: introduzir atividades de VV&amp;T ao longo de todo o ciclo de desenvolvimen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Plinio R. S. Vilela</dc:creator>
  <dc:description/>
  <dc:language>en-US</dc:language>
  <cp:lastModifiedBy>Anderson</cp:lastModifiedBy>
  <dcterms:modified xsi:type="dcterms:W3CDTF">2012-02-29T02:58:34Z</dcterms:modified>
  <cp:revision>31</cp:revision>
  <dc:subject/>
  <dc:title>Training</dc:title>
</cp:coreProperties>
</file>