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7BA9-0382-4A94-AB11-C754D625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7F07-A58B-4CB9-A291-F2E92B97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25F4-2BEF-4A69-B3E6-C84427540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828-6D40-465A-9F2D-5DB57841A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964B-7A29-4CCC-BE96-DC1777C44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54AF-F038-4E72-9CEA-355CDA293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BB3D3-EE7C-4DEE-9980-4FBDCBCEB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4F33-6369-4C17-A5AE-245C59AE9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DB9F-59E6-4983-B90C-CB85CC23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3F70-048F-4E45-A032-D704E9BD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DF09-9E69-4621-8A26-2D03FFF3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5091-951B-4456-8D90-D76A2FDC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E102-4017-4743-B776-FF479C01F5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erenciando a Atividade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erviços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Fornece serviços de teste a Gerencia de Proje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ve encontrar problemas, descreve-los cuidadosamente, e garantir que todos que devem saber a respeito fiquem sabe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ao tem autoridade para entregar ou recusar-se a entregar um prod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oce descreve os problemas, o nível de teste feito até o momento, e sua estimativa da qualidade do programa. A gerencia de projeto dec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erviços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sponsabil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u grupo é responsável por entregar teste de alta qualidade, documentaçao de teste, e uma interpretaçao dos resultados dos tes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udo isso deve ser feito dentro do cronograma estim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rescimento profission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Serviços de Desenvolvimen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Mais responsabilidades que os Serviços de Tes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us objetivos incluem melhorar o produto, ajudar os desenvolvedores, fornecer espaço para que seus membros se desenvolvam profissionalmen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ste, Depuraçao, Suporte técnico ao cliente (especialmente nas primeiras semanas após a entrega do produto), Ediçao de manuais, testes de usabilidade, avaliaçao comparativa de produtos, estudos de satisfaçao dos clientes, etc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Per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is seriam as principais vantagens de se constituir um Grupo de Serviços de Desenvolvimento ao invés de um Grupo de Tes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Qual a diferença entre um Grupo de Garantia de Qualidade e de um Grupo de Controle de Qualidad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upo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uma empresa que nao tem um grupo de teste o próprio programador é responsável pelo tes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que ocorre quando um grupo de teste é implanta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s programadores podem relaxar e deixar alguns defeitos escaparem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Na verdade os programadores devem continuar responsáveis por testar seu próprio código e garantir sua estabilidad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s programadores acham a grande maioria dos seus próprios defei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les entendem os aspectos internos do código melhor do que ningué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upo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gramadores acham defeitos, o que fica mais bar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nto antes um defeito é encontrado menos ele cu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programador em geral nao precisa replicar seu teste para descobrir o que está er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programador nao precisa explicar o problema para ninguém (comunicaçao custa MUITO ca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 programador nao precisa perguntar para ninguém como o programa deveria funcionar, entao gastar tempo escrevendo um relatório de problemas, monitorar as respostas, imprimir resumos e relatórios de stat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upo Independente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 empresa nao precisa lidar com os problemas e com os atritos políticos de se manter um grupo de t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m teoria um Grupo Independente de Teste seri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nstituido por testadores profission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dependentes de qualquer pressao política inter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e poderia ser contratado para substituir um grupo interno de 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literatura na área de teste promove fortemente essa abordag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upo Independente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lguns problema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gencias de teste sao menos “independentes” do que parece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es nao tem uma garantia de trabalho com a empresa contratante. Eles querem continuar testanto o seu produto, e ganhar o contrato para testar o próximo. Muitas vezes estao mais proponsos a querer te agradar e passar por cima de alguns problemas do que um grupo de teste inter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upo Independente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s padroes da agencia contratada podem nao ser tao altos quanto os se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ao menos propensos a criticar o projeto do software, e mais propensos a concordar com um programa com projeto ruim é correto se ele atende as especificaçoes. Quem vai ajudar a melhorar o projeto se uma agencia externa faz o tes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rupo inexperien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ara cortar custos o grupo independente de teste pode ser formado por profissionais com pouca exper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upo Independente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gencias em geral nao tem conhecimento profundo do produt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es nao sabem, nao tanto quanto voce, como um produto como o seu deveria funcionar, ou quais benefícios ele deveria trazer aos cli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es nao tem a mesma noçao de como os usuários reais do programa vao exercitar seus limi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roduç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bjetivo do Grupo de Test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principal objetivo do grupo de teste é procurar e reportar más noticia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us achados podem convencer a gerência a cancelar um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-se forçar a redefiniçao de cronogramas e atrasar a entrega de um produto por meses ou mesmo an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rasos como estes custam emprego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rupo Independente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o u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dem fornecer um ponto de partida inicial para o seu grupo de tes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pre um plano de teste, casos de teste e sugestoes para continuar o trabal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 agencia vai alocar uma equipe mais experiente para fazer esse trabalho e vai cobrar por isso. Mas os resultados serao melhor aproveitados por sua própria equipe de tes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Essa equipe tem uma visao mais ampla que a sua, e pode identificar problemas que a sua nao identificaria facilmen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m último caso um membro de sua equipe deve acompanhar todo o trabalho realiz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ron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omo gerente de teste voce é responsável por uma parte do cronograma do projeto como um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 cronograma do teste é difícil de ser estim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pende do trabalho de ou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a implementaçao atrasar o teste vai atras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a codificaçao for ruim o teste pode demorar ma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a interface for ruim o trabalho de teste é mais demor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bjetivos do Cronogra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r previsí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O gerente de projeto precisa saber quais tarefas de teste devem ser realizadas e quanto tempo elas vao demor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dentifique pontos onde uma ajuda extra fará diferenç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eixe claro onde um ajuda extra pode adiantar a atividade de teste. Se o gerente de projeto puder fazer o investimento ele saberá onde faz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ja justo com a equi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mpre se pode exigir um esforço extra dos funcionários para adiantar um projeto. Em geral essa abordagem diminui o moral, aumenta os abandonos de membros da equipe e reduz a qualidade por se lidar com uma equipe mais cans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ximize produtivida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s pessoas trabalham duro para cumprir objetivos que sao possíveis. Mas nao objetivos impossívei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edir Produtiv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-se descobrir quanto tempo, em média, uma determinada tarefa ou processo demor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-se definir quantos problemas em média sao encontrados por dia a cada fase do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ode-se saber se os seus investimento em melhorar a produtividade estao dando result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que medi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édia do número de ciclos de t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uraçao de um ciclo de t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s (defeitos) relatados por testador por 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aginas revisadas por h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úmero de mensagens de erro testadas por h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áginas de plano de teste escritas por ho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Liste e Estime cada Taref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Faca uma lista de todas as tarefas necessárias para se testar o soft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sa lista deve ser gerada em conjunto com toda a equipe de tes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Detalhe cada tarefa e faca uma estimativa do tempo necessário para cumprir a taref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 essa lista várias decisões podem ser tom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Analisando a List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de-se decidir quais tarefas nao poderao ser cumpr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de-se priorizar as ou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Quais devem ser feitas parcial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lgumas tarefas que devem ser feitas mais rapido (oportunidades para auxílio extra, ou automaçao de taref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ode-se discutir o cronograma proposto pelo gerente de projeto, com base na lista essencial de taref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lassifican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assificando o projeto em termos de complexidade e confiabilida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Classificando as tarefas em fixas ou recorrentes (ciclos de test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ntratando pess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ons programadores nao sao necessariamente bons testad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tegridade e aderencia a qual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ferencia empírica e nao teórica. O testador nao deve acreditar em nada (dito ou escrito) ele deve ter a necessidade de verificar com os proprios olh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ducac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lguma base de programac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ntratando Pesso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xperiencia com vários computadores e vários pacotes de pr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municaçao verbal e escri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om em chutar possíveis classes de defei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Bom em cumprir cronogra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bservador, cuidadoso, paciente, detalhis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roduç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A gerência de um grupo de teste oferec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uita pressã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uita dor de cabeç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Lidar com uma equipe inexperiente e mal pag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 pouca glóri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M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Reconheça um bom trabalho, em particular e em públ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Observe os detalhes do trabalho e reconheca qualidad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titude diplomática, achou um defeito interessante, relatório de problemas bem escrito, trabalhou horas-extra para cumprir cronograma, usa criatividade para resover problemas, 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roduç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Times New Roman"/>
              </a:rPr>
              <a:t>Porque a empresa ainda aguenta o gerente de testes e sua equip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Você s fornecem uma maneira com boa relação custo benefício para aumentar a qualidade do produ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roduç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Um grupo de teste bem gerenciado forne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petência: testadores especializados em testes. Eles treinam juntos e criticam de forma construtiva uns aos outros. Eles desenvolvem uma noção de profissionalismo: testar é o que eles fazem, e eles tentam ser os melhores naqui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empo de teste: testadores devem testa. Seu cronograma pede que eles terminem de testar numa determinada data. Eles não vão se distrair ao contrário de programadores que fazem teste nas horas va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Introduca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Independencia: Os testadores reportam ao gerente de testes e nao ao gerente do projeto. Se eles omitirem problemas importantes voce ficará sabendo. Se eles acharem vários problemas ou acharem problemas sérios no último minuto voce dará um aumento a eles. Eles podem se arriscar em fazer seu melhor trabalho, nao importa qual mal fique o gerente de proje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O papel do Grupo de Tes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Controle de Qualidade: define e garante a aplicaçao de padro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arantia de Qualidade: garante, de alguma forma, a qualidade do produto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rvicos de Teste: fornecem um serviço técnico ao gerente de projeto (e consequentemente a empresa): eles acham e reportam 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rvicos de Desenvolvimento: grupos que fornecem uma variedade de serviços técnicos ao gerente de projeto, inclusive te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Controle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 teoria é um grupo f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les podem impedir que um produto seja entregue até que procedimentos sejam seguidos, padroes obedecidos, e problemas corrigi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Na verdade nem tan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Como esse grupo pode parar a produçao do software e atrapalhar todo o cronograma em geral o gerente de projeto responde prontamente a qualquer interrupçao. Muitas vezes indicando que o produto deve ser entregue mesmo assim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imes New Roman"/>
              </a:rPr>
              <a:t>Garantia de Qualida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Garantia de qualidade “garante” a qualidade. Nao se pode fazer isso com tes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programa ruim testado extensivamente, sai do outro lado como um programa ruim muito bem testado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m grupo de garantia de qualidade deve se envolver com todas as etapas de desenvolvimen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ve introduzir padroes, procedimentos de revisao, treinamento, etc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 idéia é ajudar a empresa a previnir defei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quer uma equipe “muito” experiente (credibilidad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. Dr. Plínio Vilela</dc:creator>
  <dc:description/>
  <dc:language>en-US</dc:language>
  <cp:lastModifiedBy>Manute</cp:lastModifiedBy>
  <dcterms:modified xsi:type="dcterms:W3CDTF">2012-03-28T10:38:40Z</dcterms:modified>
  <cp:revision>18</cp:revision>
  <dc:subject>Teste de Software</dc:subject>
  <dc:title>Gerenciando a Atividade de Teste</dc:title>
</cp:coreProperties>
</file>