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77EEA-E1A0-446F-BFD7-1CD4F39A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A8F5-71A2-4FB4-91DC-46E3FE750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5D9A-20B6-4551-8323-9B15CE36D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7C10-ECBB-45BA-ADBA-8271F1F32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28B29-4503-42B9-8FBD-5B6FEBD4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12956-68C0-405F-8DF1-E1772B17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B0EC-0465-4BFA-8366-1EE7C7CF5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D4467-0A88-4BC1-B696-38C4D2F1D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ABF5C-A258-44F3-BD86-C0961478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797CB-DB1E-4153-B9F7-BA8F1385B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BA36B-F66D-4411-9D88-0F5F2D7A8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06EAF-43E1-49D5-8074-C0566D6C8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4BB5B-5A83-4149-A56D-927F244C3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53AC1-3EE5-4B9C-9FED-81959CCD6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37C52-066F-4757-87D6-0DC7ED036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7EE1-D9F6-45AF-9573-3C3929037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5417-CE04-4DA8-B5CD-13ECF6103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0C17-08F9-472F-BAAD-78EEA9DC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A9359-6CA0-4DAA-8F7A-5D65F6920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5075-3FE2-4798-8F0A-54BB76500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B3F-4404-4F46-AF61-8EAA4FD6E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0F92-7C84-416C-B54D-D80B3F4B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CFAE-DCD7-44DC-8E47-7638810D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D9F-7874-425E-B827-12AA0546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6868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49CED-BEC9-42E0-AA20-3E893C4BDB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6868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6F09-2A24-47FC-A298-3BE467562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19A0-B817-4BAD-AC88-68250E184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ratégias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1A92B-808B-4121-8B35-3B166F42D9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de Valid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228600" y="1676520"/>
            <a:ext cx="876312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Especificação de Requisitos de Softwa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ontém o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ritérios de validaçã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que formam a base para uma abordagem ao teste de valid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validação do software é realizada por meio de uma série de testes caixa preta que demonstram a conformidade com os requisi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 plano e o procedimento de teste são projetados para garantir 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os os requisitos funcionais são satisfe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dos os requisitos de desempenho são consegui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documentação está corre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1800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utros requisitos são cumpridos: portabilidade, compatibilidade, remoção de erros e manutenibilid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E9A2E-3FC7-499E-BC00-A46D4A6526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de Sis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oftware é apenas parte de um sistema mai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e interage com outros componentes, principalmente componentes de hardw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stei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aços mecânicos, etc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 atividades envolvidas nessa fase dependem muito do tipo de sistema; alguns exemplos sã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 de Recuperação: sistemas que devem se recuperar automáticamente de possíveis falhas (módulo independente no Polo Sul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 de Segurança: sistemas que gerenciam informação confidenc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 de Estresse: confrontar o software com condições que requerem a utilização de recursos de maneira anorm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32031-C1F4-4D4B-B271-E2CAF96A2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6" name="Object 4"/>
          <p:cNvGraphicFramePr/>
          <p:nvPr/>
        </p:nvGraphicFramePr>
        <p:xfrm>
          <a:off x="576360" y="2581200"/>
          <a:ext cx="812484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6360" y="2581200"/>
                    <a:ext cx="812484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Arte da Depuraçã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228600" y="1752480"/>
            <a:ext cx="8763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2149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objetivo primordial d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ur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é descobrir e corrigir a causa de uma falha do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228600" y="5562720"/>
            <a:ext cx="86104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just">
              <a:spcBef>
                <a:spcPts val="2149"/>
              </a:spcBef>
              <a:spcAft>
                <a:spcPts val="7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puraçã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corre em conseqüência de testes bem sucedidos. Embora a depuração possa e deva ser ser um processo disciplinado, ela ainda tem muito d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8765-FFA6-4435-87DD-75F10883FD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Processo de Depu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152280" y="1525680"/>
            <a:ext cx="8839440" cy="481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8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OR QUE A DEPURAÇÃO É TÃO DIFÍCIL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- O sintoma e a causa podem ser geograficamente remotos. Estruturas altamente acopladas exacerbam essa situaçã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- O sintoma pode desaparecer (temporariamente) quando outro erro é corrigi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- O sintoma pode, de fato, ser causado por não erros (por exemplo, imprecisões de arredondamen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4- O sintoma pode ser causado por um erro humano que não é facilmente rastre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5- O sintoma pode ser resultado de problemas d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timin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, e não problemas de processam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- O sintoma pode ser devido a causas que estão distribuídas por uma série de tarefas que são executadas em diferentes processado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C549-9F1B-4ADD-A841-63A48224E8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belece uma seqüência específica de passos a serem seguidos, nos quais técnicas de teste são definidas e aplic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nece ao testador um modelo para a condução da atividade de te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B224B-42A0-462B-BEFC-FA8AA95203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isão G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ra geral, as estratégias de teste possuem os seguintes pontos em comu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teste inicia no nível de módulos ou unidades e evolui até alcançar o teste do sistema como um t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erentes técnicas de teste são indicadas para as diferentes etapas do te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teste é conduzido pelos desenvolvedores e por uma equipe independente de te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estratégia de teste deve acomodar a atividade de depur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F77C8-55AB-4B25-8D6E-04A27E24AB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ratégias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539640" y="1987560"/>
            <a:ext cx="2806920" cy="901800"/>
          </a:xfrm>
          <a:prstGeom prst="roundRect">
            <a:avLst>
              <a:gd name="adj" fmla="val 12495"/>
            </a:avLst>
          </a:prstGeom>
          <a:solidFill>
            <a:srgbClr val="b2b2b2"/>
          </a:solidFill>
          <a:ln w="1260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615960" y="3054240"/>
            <a:ext cx="2654280" cy="749520"/>
          </a:xfrm>
          <a:prstGeom prst="roundRect">
            <a:avLst>
              <a:gd name="adj" fmla="val 12495"/>
            </a:avLst>
          </a:prstGeom>
          <a:solidFill>
            <a:srgbClr val="b2b2b2"/>
          </a:solidFill>
          <a:ln w="12600">
            <a:solidFill>
              <a:srgbClr val="3939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594000" y="2041560"/>
            <a:ext cx="274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écnica de Proj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Casos de 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745920" y="3108240"/>
            <a:ext cx="24724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étodo de 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7"/>
          <p:cNvSpPr/>
          <p:nvPr/>
        </p:nvSpPr>
        <p:spPr>
          <a:xfrm>
            <a:off x="3740040" y="2444760"/>
            <a:ext cx="2044800" cy="977760"/>
          </a:xfrm>
          <a:prstGeom prst="rightArrow">
            <a:avLst>
              <a:gd name="adj1" fmla="val 50000"/>
              <a:gd name="adj2" fmla="val 104575"/>
            </a:avLst>
          </a:prstGeom>
          <a:solidFill>
            <a:srgbClr val="b2b2b2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6080040" y="2041560"/>
            <a:ext cx="23353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 cada F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Desenvolvi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9"/>
          <p:cNvSpPr/>
          <p:nvPr/>
        </p:nvSpPr>
        <p:spPr>
          <a:xfrm>
            <a:off x="1355760" y="4479840"/>
            <a:ext cx="672156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e e Depuração são atividades difer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Depuração deve ser acomodada em qualquer estratégia de tes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5340240" y="1378080"/>
            <a:ext cx="3721320" cy="2882880"/>
          </a:xfrm>
          <a:custGeom>
            <a:avLst/>
            <a:gdLst>
              <a:gd name="textAreaLeft" fmla="*/ 849600 w 3721320"/>
              <a:gd name="textAreaRight" fmla="*/ 2871720 w 3721320"/>
              <a:gd name="textAreaTop" fmla="*/ 658080 h 2882880"/>
              <a:gd name="textAreaBottom" fmla="*/ 2224800 h 2882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565D-07DF-4375-8158-F056F60D9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ma Estratégia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3733920" y="1523880"/>
            <a:ext cx="5333760" cy="39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buClr>
                <a:srgbClr val="b2b2b2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ste de Unidad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ncentra-se em cada unidade do software, de acordo com o que é implementado no código font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b2b2b2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ste de Integraçã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concentra-se no projeto e na construção da arquitetura de softwar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b2b2b2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ste de Validaçã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os requisitos estabelecidos como parte da análise de requisitos de software são validados em relação ao software que foi construíd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b2b2b2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este de Sistem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o software e outros elementos do sistema são testados como um to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1809720"/>
            <a:ext cx="3713040" cy="3448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93939">
                <a:alpha val="50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ço Reservado para Número de Slide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58B32-4E5A-4D90-A39D-38B8EF6B5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envolvedores X Testad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Object 3"/>
          <p:cNvGraphicFramePr/>
          <p:nvPr/>
        </p:nvGraphicFramePr>
        <p:xfrm>
          <a:off x="2590920" y="4648320"/>
          <a:ext cx="1682640" cy="158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4648320"/>
                    <a:ext cx="1682640" cy="15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" name="Object 4"/>
          <p:cNvGraphicFramePr/>
          <p:nvPr/>
        </p:nvGraphicFramePr>
        <p:xfrm>
          <a:off x="152280" y="2514600"/>
          <a:ext cx="3394080" cy="364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514600"/>
                    <a:ext cx="3394080" cy="364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" name="Rectangle 5"/>
          <p:cNvSpPr/>
          <p:nvPr/>
        </p:nvSpPr>
        <p:spPr>
          <a:xfrm>
            <a:off x="3733920" y="1600200"/>
            <a:ext cx="5181480" cy="247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atividade de teste tem um caráter destru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desenvolvedor PODE ter um interesse inconsciente de demonstrar que o software não tem defeitos, contrariando o objetivo do te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9B1F-A83C-4034-A1BA-C4DFB336F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de Un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41280" y="1517760"/>
          <a:ext cx="2478240" cy="3411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1280" y="1517760"/>
                    <a:ext cx="2478240" cy="341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8" name="Group 9"/>
          <p:cNvGrpSpPr/>
          <p:nvPr/>
        </p:nvGrpSpPr>
        <p:grpSpPr>
          <a:xfrm>
            <a:off x="1047960" y="2139840"/>
            <a:ext cx="753480" cy="825480"/>
            <a:chOff x="1047960" y="2139840"/>
            <a:chExt cx="753480" cy="825480"/>
          </a:xfrm>
        </p:grpSpPr>
        <p:sp>
          <p:nvSpPr>
            <p:cNvPr id="119" name="Rectangle 4"/>
            <p:cNvSpPr/>
            <p:nvPr/>
          </p:nvSpPr>
          <p:spPr>
            <a:xfrm>
              <a:off x="1073160" y="2139840"/>
              <a:ext cx="67320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Rectangle 5"/>
            <p:cNvSpPr/>
            <p:nvPr/>
          </p:nvSpPr>
          <p:spPr>
            <a:xfrm>
              <a:off x="1047960" y="2155680"/>
              <a:ext cx="75348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ód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6"/>
            <p:cNvSpPr/>
            <p:nvPr/>
          </p:nvSpPr>
          <p:spPr>
            <a:xfrm>
              <a:off x="1143000" y="251460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7"/>
            <p:cNvSpPr/>
            <p:nvPr/>
          </p:nvSpPr>
          <p:spPr>
            <a:xfrm>
              <a:off x="1143000" y="266688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8"/>
            <p:cNvSpPr/>
            <p:nvPr/>
          </p:nvSpPr>
          <p:spPr>
            <a:xfrm>
              <a:off x="1143000" y="2819520"/>
              <a:ext cx="5335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Rectangle 10"/>
          <p:cNvSpPr/>
          <p:nvPr/>
        </p:nvSpPr>
        <p:spPr>
          <a:xfrm>
            <a:off x="3124080" y="1752480"/>
            <a:ext cx="5562720" cy="42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ectos computacionais e algorít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blemas mais comu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edência de operador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iciação de variávei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cisão ou arredondamento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ação entre tipos de dados diferent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aração incorreta ou uso de variável incorre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teração incorreta de variáveis de controle de loop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ço Reservado para Número de Slide 4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6C5BC-4A13-40BF-A5A4-B77C04691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de Unidade: Ambie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" name="Group 8"/>
          <p:cNvGrpSpPr/>
          <p:nvPr/>
        </p:nvGrpSpPr>
        <p:grpSpPr>
          <a:xfrm>
            <a:off x="2953080" y="3435480"/>
            <a:ext cx="753480" cy="825480"/>
            <a:chOff x="2953080" y="3435480"/>
            <a:chExt cx="753480" cy="825480"/>
          </a:xfrm>
        </p:grpSpPr>
        <p:sp>
          <p:nvSpPr>
            <p:cNvPr id="128" name="Rectangle 3"/>
            <p:cNvSpPr/>
            <p:nvPr/>
          </p:nvSpPr>
          <p:spPr>
            <a:xfrm>
              <a:off x="2978280" y="3435480"/>
              <a:ext cx="672840" cy="825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Rectangle 4"/>
            <p:cNvSpPr/>
            <p:nvPr/>
          </p:nvSpPr>
          <p:spPr>
            <a:xfrm>
              <a:off x="2953080" y="3451320"/>
              <a:ext cx="753480" cy="30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Módul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5"/>
            <p:cNvSpPr/>
            <p:nvPr/>
          </p:nvSpPr>
          <p:spPr>
            <a:xfrm>
              <a:off x="3048120" y="380988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6"/>
            <p:cNvSpPr/>
            <p:nvPr/>
          </p:nvSpPr>
          <p:spPr>
            <a:xfrm>
              <a:off x="3048120" y="396252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7"/>
            <p:cNvSpPr/>
            <p:nvPr/>
          </p:nvSpPr>
          <p:spPr>
            <a:xfrm>
              <a:off x="3048120" y="4114800"/>
              <a:ext cx="5331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" name="Rectangle 9"/>
          <p:cNvSpPr/>
          <p:nvPr/>
        </p:nvSpPr>
        <p:spPr>
          <a:xfrm>
            <a:off x="3664080" y="2368440"/>
            <a:ext cx="901440" cy="520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3717360" y="2414520"/>
            <a:ext cx="782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ri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2063880" y="5111640"/>
            <a:ext cx="672840" cy="44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3587760" y="5111640"/>
            <a:ext cx="673200" cy="444600"/>
          </a:xfrm>
          <a:prstGeom prst="rect">
            <a:avLst/>
          </a:prstGeom>
          <a:solidFill>
            <a:srgbClr val="39393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2117520" y="5157720"/>
            <a:ext cx="604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Rectangle 14"/>
          <p:cNvSpPr/>
          <p:nvPr/>
        </p:nvSpPr>
        <p:spPr>
          <a:xfrm>
            <a:off x="3641400" y="5157720"/>
            <a:ext cx="6040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Line 15"/>
          <p:cNvSpPr/>
          <p:nvPr/>
        </p:nvSpPr>
        <p:spPr>
          <a:xfrm flipH="1">
            <a:off x="2437920" y="4267080"/>
            <a:ext cx="6858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16"/>
          <p:cNvSpPr/>
          <p:nvPr/>
        </p:nvSpPr>
        <p:spPr>
          <a:xfrm>
            <a:off x="3429000" y="4267080"/>
            <a:ext cx="53352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7"/>
          <p:cNvSpPr/>
          <p:nvPr/>
        </p:nvSpPr>
        <p:spPr>
          <a:xfrm flipH="1">
            <a:off x="3352320" y="289548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8"/>
          <p:cNvSpPr/>
          <p:nvPr/>
        </p:nvSpPr>
        <p:spPr>
          <a:xfrm>
            <a:off x="4578480" y="2521080"/>
            <a:ext cx="825480" cy="215640"/>
          </a:xfrm>
          <a:prstGeom prst="rightArrow">
            <a:avLst>
              <a:gd name="adj1" fmla="val 50000"/>
              <a:gd name="adj2" fmla="val 19142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19"/>
          <p:cNvSpPr/>
          <p:nvPr/>
        </p:nvSpPr>
        <p:spPr>
          <a:xfrm>
            <a:off x="2825640" y="2521080"/>
            <a:ext cx="825480" cy="215640"/>
          </a:xfrm>
          <a:prstGeom prst="rightArrow">
            <a:avLst>
              <a:gd name="adj1" fmla="val 50000"/>
              <a:gd name="adj2" fmla="val 191420"/>
            </a:avLst>
          </a:prstGeom>
          <a:solidFill>
            <a:srgbClr val="b2b2b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20"/>
          <p:cNvSpPr/>
          <p:nvPr/>
        </p:nvSpPr>
        <p:spPr>
          <a:xfrm>
            <a:off x="1810080" y="1935000"/>
            <a:ext cx="16570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do de T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21"/>
          <p:cNvSpPr/>
          <p:nvPr/>
        </p:nvSpPr>
        <p:spPr>
          <a:xfrm>
            <a:off x="5009760" y="1935000"/>
            <a:ext cx="1975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ado Obt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FBF2-7087-47C4-9221-B545065A97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de Integ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6920" y="1599840"/>
            <a:ext cx="8718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écnica sistemática para a construção da estrutura do software, procurando revelar defeitos associados com a interação entre as un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ção não incremen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ig-Ba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tuação caótica, onde um número alto de problemas é identificado. Difícil solução pois não se consegue isolar cada problema e buscar sua orige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gração increment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op-Dow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rincipais pontos de decisão na hierarquia de controle são testados ant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ottom-U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evita o uso de “stubs” complexos, mas não se conhece a “cara” do sistema até que ele tenha sido completamente integ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Sandwi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linio R. S. Vilela</dc:creator>
  <dc:description/>
  <dc:language>en-US</dc:language>
  <cp:lastModifiedBy>Anderson</cp:lastModifiedBy>
  <dcterms:modified xsi:type="dcterms:W3CDTF">2012-02-29T03:01:25Z</dcterms:modified>
  <cp:revision>13</cp:revision>
  <dc:subject/>
  <dc:title>Estratégias de Teste</dc:title>
</cp:coreProperties>
</file>