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49D5-AD8D-405C-859E-D2D5BA2C81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572F76-6925-49B9-B428-7569A4B0EF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0FF00-A971-492A-B18D-1BFB809733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D72FF-0A3B-4538-9AD8-EA53B5137F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08836-1679-4E31-A6F2-D36911918B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3A93F-9CC1-4DB2-81EB-B2FD41F41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8A76C-6C10-4ADC-8E85-440F520EF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496EF-F047-4116-B2DF-56DC68FC0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8657F-CF33-42F0-8032-7A8A5C6D3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073F0-175E-4B07-98FD-122D5E4721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D775-2609-4276-9F4E-A9AC023DD1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B589A-6FDF-4E0B-BD95-54A1B4A37B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8459280" y="6381360"/>
            <a:ext cx="538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ECF43-B375-47EE-8325-CC442416F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2" descr="C"/>
          <p:cNvPicPr/>
          <p:nvPr/>
        </p:nvPicPr>
        <p:blipFill>
          <a:blip r:embed="rId2"/>
          <a:stretch/>
        </p:blipFill>
        <p:spPr>
          <a:xfrm>
            <a:off x="8459640" y="0"/>
            <a:ext cx="684360" cy="6858000"/>
          </a:xfrm>
          <a:prstGeom prst="rect">
            <a:avLst/>
          </a:prstGeom>
          <a:ln w="0">
            <a:noFill/>
          </a:ln>
        </p:spPr>
      </p:pic>
      <p:pic>
        <p:nvPicPr>
          <p:cNvPr id="38" name="Picture 4" descr="Logomarca Verotti"/>
          <p:cNvPicPr/>
          <p:nvPr/>
        </p:nvPicPr>
        <p:blipFill>
          <a:blip r:embed="rId3"/>
          <a:stretch/>
        </p:blipFill>
        <p:spPr>
          <a:xfrm>
            <a:off x="2268360" y="620640"/>
            <a:ext cx="3810240" cy="561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Analisando e Reportando</a:t>
            </a:r>
            <a:br>
              <a:rPr sz="4400"/>
            </a:b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Defe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údo do Relató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a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dica a situação atual do problema. Em aberto, ou resolv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ior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mpo preenchido pelo gerente de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1"/>
          <a:stretch/>
        </p:blipFill>
        <p:spPr>
          <a:xfrm>
            <a:off x="1828800" y="4495680"/>
            <a:ext cx="4724280" cy="21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údo do Relató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Resolu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ogramador indica sua solução para o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endente: O gerente de projeto ainda tem que classificar e atribuir esse relatório de problema a algum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rrigido: Problema foi solucionado pelo program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foi possível reproduzi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údo do Relató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erido: O gerente de projeto reconhece o problema mas decide não corrigi-lo nesta ver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projetado: O problema reportado não é um defeito, estava planejado no projeto do progra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ais informações: O programador devolve o relatório para mais informaçõ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concordo com a sugestão: A principio não serão feitas as modificações sugeri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astreando 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astreando Problem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acontece com o relatório de problemas depois que ele é submeti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o de uma ferramenta para rastrear problemas é recomend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Tem influências políticas e técn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flu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ntroduz responsabil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formações que tradicionalmente eram conhecidas apenas pelos gerentes de projetos e programadores e as torna quase públic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lista de problemas reflete a qualidade atual do prod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-se acompanhar a evolução da lista por algumas semanas para se avaliar o ritmo de avanço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flu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blemas pessoais e de controle aparec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sistema de rastreamento passa a ser o principal veículo de comunicação entre os desenvolvedores e tes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egistro revelador de comport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flu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sempenho individ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É fácil obter informações estatísticas individuais a partir dos registros do sistema de rastre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úmero de falhas por dia relatadas por um tes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úmero de defeitos por programador por sem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traso médio de cada programador antes de solucionar um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fluênci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unição para 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Brigas entre equipes que competem por recursos são comu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lgumas estatísticas fornecidas pelo sistema de rastreamento podem ser usadas para fomentar essas bri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e-se tomar cuidado em como se usa o sistema de rastreamento de problema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Objetivo 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azer com que os defeitos que devem ser corrigidos, realmente sejam corrig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lquer um que tenha que saber sobre um problema deve receber a informação o quanto 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nhum defeito ficará sem ser corrigido porque foi esqueci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nhum defeito ficará sem ser corrigido porque um único programador não queria corrigi-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mínimo de problemas ficará sem ser corrigido por problemas de comun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forma como se reporta um defeito influencia nas chances do programador corrigi-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e-se gastar o mínimo de tempo reportando uma falha de forma a maximizar as chances do defeito ser encontrado e corrig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problema é repor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problema é encontrado e estudado para que se possa escrever um relatório a seu respe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relatório vai para o gerente de proj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ssim que o relatório está no banco de dados, uma cópia segue para o gerente de proj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gerente prioriza o relatório e o atribui a um programador, ou responde diretamente ao relatório pedindo mais detalhes do testa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gerente envia aos program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gerente espera que o problema seja corrigido, ou uma explicação seja dada. Em geral o problema é corrig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problema é corrig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programador indica a correção no banco de dados, adicionando alguns comentários. O relatório é devolvido ao testador que o gerou para novos tes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Visão G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Status do probl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m resumo de todos os problemas encontrados em um projeto e quais ainda não foram resolv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ve mostrar os avanços no projeto semana a semana de forma cumulativ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lato Ef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xplicar como reproduzir o probl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s programadores dispensam relatórios de problemas que não podem ver eles mesm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nalise o problema para descrevê-lo no menor número possível de pas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número grande de passos faz com que o problema pareça mais específico e pode receber uma menor prior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relatório deve ser completo, fácil de entender e não antagôn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Relato Efe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se um formulá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Use um formulário para fazer o relato de problem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de ser no papel ou eletrônico, mas deve ser preenchido o quanto an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údo do Relató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úme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eenchido automaticamente se formulário eletrônico. Se preenchido no papel, manter um esquema para definir um número único para cada relatór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ogram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pecifica qual é o programa e produto que tem o problem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ers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 o código sendo t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údo do Relató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o de Relató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eito de Cod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ograma se comporta de uma maneira não inten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ogramador pode discordar e dizer que aquilo está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 acordo com o proje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blema de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testador acha que o programa funciona como esperado, mas discorda do pro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geral problemas com a Interface com o Usuário podem ser relatados desta for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údo do Relató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os de Relató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gest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testador não afirma que existe algo errado, mas acredita que suas idéias podem melhorar o program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ocumenta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ograma não se comporta como descrito no manual ou na ajuda on-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ica alguma incompatibilidade entre o programa e algum dispositivo de hard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údo do Relató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ver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do para indicar a severidade do problema encontrado (menor, séria, fat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umário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crever uma ou duas linhas descrevendo o problema encont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crição do problema e como reproduzi-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crever o mais detalhadamente possível o problema encont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icar os passos e condiç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ões necessárias para reproduzi-l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Arial"/>
              </a:rPr>
              <a:t>Conteúdo do Relató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ugestão de Correç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mpo opcional. Deixe em branco se a solução for óbvia, ou se não tiver uma sugest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me de quem escreveu o relató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Área Fu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ategoriza de forma geral a fonte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ent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sado para manter um histórico da interação entre a equipe de teste, desenvolvedores e g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3T11:52:39Z</dcterms:created>
  <dc:creator>eduardo.almeida</dc:creator>
  <dc:description/>
  <dc:language>en-US</dc:language>
  <cp:lastModifiedBy>Anderson</cp:lastModifiedBy>
  <dcterms:modified xsi:type="dcterms:W3CDTF">2012-03-06T13:57:17Z</dcterms:modified>
  <cp:revision>49</cp:revision>
  <dc:subject/>
  <dc:title>Slide 1</dc:title>
</cp:coreProperties>
</file>