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A9E4C8-C90F-4BB8-AEEC-56BEDD7849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8F6BC-7C4F-4A06-AA57-9836E31C4B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57A7C-5D48-4AAD-B899-C0488CFE02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5D618-26E2-4FC5-B729-FE13F7D75B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6943D-E5DE-42CD-B6E2-F59AF9EBB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8E6DE1-AEB7-4ABD-BFE3-F952BBE70E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35DB4-F65F-4984-BF0A-5AC22BF96A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08644-CA2D-4260-BCAE-4BFFB94E60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E6E46-5EBD-425F-96BB-ECD104CB10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46983-36CD-4E1D-B6C4-432A8301F8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DA81E-7672-4EA6-8AF3-3664E9B5C2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77136-5887-4977-93B9-D52FBEF30F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59280" y="6381360"/>
            <a:ext cx="53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A276-9D54-4106-B79D-5BB0927BA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"/>
          <p:cNvPicPr/>
          <p:nvPr/>
        </p:nvPicPr>
        <p:blipFill>
          <a:blip r:embed="rId2"/>
          <a:stretch/>
        </p:blipFill>
        <p:spPr>
          <a:xfrm>
            <a:off x="8459640" y="0"/>
            <a:ext cx="68436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4" descr="Logomarca Verotti"/>
          <p:cNvPicPr/>
          <p:nvPr/>
        </p:nvPicPr>
        <p:blipFill>
          <a:blip r:embed="rId3"/>
          <a:stretch/>
        </p:blipFill>
        <p:spPr>
          <a:xfrm>
            <a:off x="2268360" y="620640"/>
            <a:ext cx="3810240" cy="561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Projeto de Casos de Te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chando Classes de Equivalê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e por variáveis que devem ser igua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e classes de equivalência determinadas pelo tempo. Considere que você aperta a barra de espaço antes, durante e logo após o programa fazer uma gravação em arquivo. Alguns programas falham quando submetidos a esse tipo de t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e por variáveis que devem ser calculadas em uma determinada faixa. Por exemplo, os três ângulos de um triângulo devem ter a soma igual a 180 graus, tente entrar três ângulos cuja soma seja menor, igual ou maior que 18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e por eventos de saída equivalent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ocure por ambientes de operação equivalentes. O programa deve funcionar em um ambiente com 64k a 256k de memória disponível. Essas informações definem as classes de equival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es das Classes de Equival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e apenas 1 ou 2 casos de teste de cada classe de equivalê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melhores são os que estão no limite das classes de equivalê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eitos em comandos de comparação resultam em falhas nos limites das classes de equivalência. Programas que falham em valores fora dos limites em geral falham nos limites també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ocê deve testar cada limite das classes de equivalência, de todos os l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rograma que passe por esse teste vai provavelmente passar qualquer outros teste dentro das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es das Classes de Equival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a faixa válida de entrada é de 1 a 99. Use 0 e 100 para testar as classes invál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programa espera uma letra maiúscula, use A ou Z. Teste @ pois seu código ASCII é um a menos que o código para A, e [ é uma a mais que Z. Teste a e z també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programa imprime linhas de um ponto a 4 polegadas de comprimento, tente linhas de 1 ponto e de 4 polegadas. Tente uma linha de zero pon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a entrada deve somar 180, tente entradas que somem 179, 180 e 1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imites das Classes de Equivalênc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programa espera um certo número de entradas, dê a ele o número esperado, uma a menos e uma a ma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nte mandar um arquivo para a impressora um pouco antes e um pouco depois de uma outra pessoa também envi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lendo ou escrevendo em um arquivo verifique o primeiro e o último caracter do arquivo. É possível ler depois do _x001c_final do arquiv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se está analisando os limites do programa é importante observar todas as saí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é o maior e o menor valor legítimo de saída do program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ia possível forçá-lo a fornecer uma saída um pouco maior, ou um pouco men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ansição de Estado Visí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 programa interativo move-se de um estado para outro. Se você fez alguma coisa que modificou a faixa de opções disponíveis, ou que fez com que o programa mostrasse alguma coisa diferente na tela, você modificou o estado do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programa com menu é um exemplo típ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programa começa com um menu introdutório. Quando uma opção é selecionada o programa muda de estado e um novo menu é mostr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ve-se testar cada opção em cada menu. Deve-se verificar se cada seleção feita conduz ao estado corre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ideal é que se tenha uma representação dos possíveis estados do programa para que se possa analisar quais caminhos foram efetivamente test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pendências de Temp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rificar se programa pode executar muito devagar ou muito rápi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-se testar esse aspecto modificando o clock do processador, rodando o programa em computadores diferentes com velocidades dife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nte entradas de dados via teclado enquanto o programa está em transição de est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erifique as condições de time-out do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 o programa com uma carga grande de dados. Em um sistema multi-usuário execute outros programas enquanto o seu está em te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ita os testes feitos em condições normais quando o programa está sobre alta carga (ou quando está de alguma forma rodando mais devaga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geral é possível identificar problemas de temporização não observados anterior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este de Carg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 todos os limites do programa que estão de alguma forma presentes em sua document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tamanho dos arquivos com os quais ele pode trabalhar, o número de impressoras que ele controla, o número de terminais, modems, bytes de memória que podem ser gerencia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bra o número máximo de arquivos. Quando os limites não estão definidos, mas você acha que deveria existir um, teste um número realmente grande (ou pequeno) para ver se o programa pode aguentar. Se não puder relate o probl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 o programa no limite de seu ambiente també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e com o disco cheio, e com o disco quase chei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e com a impressora sem papel, ou deslig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e com pouca memóri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ste com modems rápidos e lent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ercíc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lvl="1" marL="727920" indent="-280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elecione um programa para testar, disponível comercialmente. Quais são as tarefas que você deveria realiza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e os valores que você pode entrar em cada campo do programa (escolha alguns se forem muitos). Divida esses valores em classes de equivalênc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e os mesmos campos novamente para determinar os valores limi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rie uma lista com todas as classes de equivalência determin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ste o programa selecionando as entradas a partir das classes de equivalência. Anote os problemas encontrados de forma que eles possam ser reproduzi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racterísticas de um bom caso de te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 uma probabilidade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azoável de revelar a presença de um defei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mos testar procurando falhas. Quando estiver pensando nos casos de teste, tente trabalhar a partir de uma idéia sobre como o programa poderia falh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é redundante. Se dois testes parecem o mesmo, porque rodar os do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racterísticas de um bom caso de te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560" y="1773360"/>
            <a:ext cx="856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o melhor do seu tip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m um grupo de casos de teste similares um pode ser mais efetivo escolha o que parecer ter mais chances de revelar a presença de defei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ão é nem muito simples nem muito complex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-se economizar tempo juntando mais de um teste em uma única execu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blema é que pode-se começar a ter casos de teste muito difíceis de se executar, ou de se entende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05840" indent="-2008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melhor é separá-los e executar casos de teste mais si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aracterísticas de um bom caso de tes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0" y="1773360"/>
            <a:ext cx="8964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lvl="1" marL="668520" indent="-2570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caso de teste torna óbvia a ocorrência de uma falha. Testadores não notam muitas falhas por não reconhecer a ocorrência de um proble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creva a saída esperada como resultado de cada teste, assim que eles são criados. Consulte essas anotações ao testar o progra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ntenha o que vai ser testado pequeno. Não teste uma grande parte do software ao mesmo tem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programa gera muitas saídas, por exemplo em um grande arquivo de saída, escreva programas que procurem por problemas nesses arquivos automatica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lasses de Equivalência e Análise de Valores Lim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lasses de Equivalência: Se você espera o mesmo resultado de dois testes, você os considera equivalentes. Um grupo de testes formam uma classe de equivalência se você acredita qu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os testam a mesma cois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 teste pega um defeito, os outros provavelmente também o pegar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um teste não pega um defeito, os outros provavelmente também não o vão peg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lasses de Equivalência e Análise de Valores Limi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aturalmente deve-se ter razões para acreditar que os casos de teste são equivalentes. Os casos de teste são em geral agrupados na mesma classe de equivalência quand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s envolvem a mesma variável de entra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s resultam em operações similares no program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les afetam as mesmas variáveis de saíd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nhum força o programa a executar código de manipulação de erros, ou todos o faz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chando Classes de Equivalê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uas pessoas analisando o mesmo programa vão desenvolver listas diferentes de classes de equivalê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se é um processo subjetivo. Deve-se procurar o maior número possível de classes de equivalências, isso ajuda na seleção dos casos de te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ve-se executar um, ou alguns, casos de teste que pertençam a uma classe de equivalência,deixando os outros de la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lgumas recomendações para se procurar classes de equivalê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chando Classes de Equivalê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esqueça das classes de equivalência para valores inválidos. Essa é provavelmente a melhor fonte de falhas. Poucos programadores testam de maneira adequada a resposta do programa a entradas inválidas ou não esperadas. Por exemplo um programa que deve aceitar como entrada qualquer número entre 1 e 99 tem pelo menos quatro classes de equivalênci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número entre 1 e 99 é váli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número menor que 1 é muito pequeno. Isso inclui 0 e todos os números negativ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quer número mair que 99 é muito gran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não é um número não deveria ser aceito. Isso é verd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chando Classes de Equivalê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878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e sua classificação em uma tabela ou em uma listagem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ure por faixas de val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cure por membros de um grupo. Se uma entrada deve pertencer a um grupo, uma classe de equivalência inclui todos os membros daquele grupo, outra classe de equivalência inclui tudo que não faz parte do grup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nalise a resposta a listas e menus. Se você deve entar uma de uma lista de possíveis entradas, e o programa responde de forma diferente a cada uma delas, cada entrada é na verdade sua própria classe de equivalência. Uma classe inválida inclui todas as entradas que não fazem parte da l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1:52:39Z</dcterms:created>
  <dc:creator>eduardo.almeida</dc:creator>
  <dc:description/>
  <dc:language>en-US</dc:language>
  <cp:lastModifiedBy>Anderson</cp:lastModifiedBy>
  <dcterms:modified xsi:type="dcterms:W3CDTF">2012-03-21T11:45:50Z</dcterms:modified>
  <cp:revision>67</cp:revision>
  <dc:subject/>
  <dc:title>Slide 1</dc:title>
</cp:coreProperties>
</file>