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C2EE-D8FC-4F39-9E97-15F315BC9F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BE5-327F-4F17-8644-EBB547ACB3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8EB2-6BCC-4479-BCFB-A6F0485E64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C3F-82BD-4EED-8304-735F9CA895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046A-2B66-450B-985C-A54DE55E512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5C3D-517B-4B60-B83C-5C8BAA5641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F98D-9840-4248-AB92-0BE995AEDE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28E1-A3CE-4FC2-98C7-E4626372A9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A04D-2BBB-4342-B104-064CE568FE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5D67-6D7B-486B-A7AE-947A07960A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84DD-E5F5-498B-902B-7F88E73CE9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E3C3-31E8-402E-AB00-6F5E055AAD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E657-E224-4350-9EBB-1F4148390E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4504-59C5-44A8-9564-54D95C311C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8681-4913-40D4-AE31-B717C2C1857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47D1-3693-452D-8B44-AACE89EE18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AF88-FFEC-415F-A693-786ED0AEF1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0791-55AD-4797-9367-DC03BF2477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4D4F-01A7-47F3-B3AE-2C87619BD0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7263-D5CC-4C32-AB18-C962B3DE74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A3FB-2D5E-4399-95D3-6AE28B9974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3389-6D12-4E75-BCA3-AD099BD409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BE40-1063-4E62-8A45-3F0267A077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4E48-4236-4BCB-83A4-1459765768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205B-8DF9-4638-8BB6-1E8E04FA12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026-31ED-447D-92D0-C6B58ADA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6C2-82E3-4615-BDC4-8DF895BB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A58-D7FE-4E64-82B3-9CCB0E3E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C5A-AFA7-482C-9729-B7BF40B7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8D8-565A-42EC-BA26-E555C8D1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89E-D04A-40EF-8493-B973EA14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2A9-684E-4CFB-8084-9EFE8F5F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317-91DF-48CD-8397-5CEFA473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AE5-2984-4804-B875-2C2AC5B8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758-B240-4838-A1B9-DE01BD7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E4A-5AAC-44BA-8677-C5FD7BA8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827-4A1B-46C5-A6E4-CA629D3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0B36-68E9-43B8-BBF0-541BA2C35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7f604f"/>
                </a:solidFill>
                <a:latin typeface="Arial"/>
              </a:rPr>
              <a:t>Teste de Software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écnicas </a:t>
            </a:r>
            <a:r>
              <a:rPr b="1" lang="pt-BR" sz="3800" spc="-1" strike="noStrike">
                <a:solidFill>
                  <a:srgbClr val="000000"/>
                </a:solidFill>
                <a:latin typeface="Arial"/>
              </a:rPr>
              <a:t>Estrutura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ste Baseado em Análise de Fluxo de Cont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plexidade Ciclo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étrica de software que proporciona uma medida quantitativa da complexidade lógica de um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 ser calculada de três for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úmero de regiões do grafo de fluxo de c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(G) = E - N+2 (E=número de arcos, N=número de nó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(G) = P+1 (P é o número de nós de decis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828800" y="0"/>
            <a:ext cx="1600200" cy="6553080"/>
            <a:chOff x="1828800" y="0"/>
            <a:chExt cx="1600200" cy="6553080"/>
          </a:xfrm>
        </p:grpSpPr>
        <p:sp>
          <p:nvSpPr>
            <p:cNvPr id="161" name="Oval 3"/>
            <p:cNvSpPr/>
            <p:nvPr/>
          </p:nvSpPr>
          <p:spPr>
            <a:xfrm>
              <a:off x="2286000" y="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4"/>
            <p:cNvSpPr/>
            <p:nvPr/>
          </p:nvSpPr>
          <p:spPr>
            <a:xfrm>
              <a:off x="2286000" y="609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2514600" y="457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6"/>
            <p:cNvSpPr/>
            <p:nvPr/>
          </p:nvSpPr>
          <p:spPr>
            <a:xfrm>
              <a:off x="2286000" y="1295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2514600" y="106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8"/>
            <p:cNvSpPr/>
            <p:nvPr/>
          </p:nvSpPr>
          <p:spPr>
            <a:xfrm>
              <a:off x="2819520" y="19810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2666880" y="167616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10"/>
            <p:cNvSpPr/>
            <p:nvPr/>
          </p:nvSpPr>
          <p:spPr>
            <a:xfrm>
              <a:off x="2286000" y="2590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2514600" y="1752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 flipH="1">
              <a:off x="2666520" y="236196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3"/>
            <p:cNvSpPr/>
            <p:nvPr/>
          </p:nvSpPr>
          <p:spPr>
            <a:xfrm>
              <a:off x="2819520" y="32763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4"/>
            <p:cNvSpPr/>
            <p:nvPr/>
          </p:nvSpPr>
          <p:spPr>
            <a:xfrm>
              <a:off x="2666880" y="297180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2286000" y="3886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514600" y="30477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 flipH="1">
              <a:off x="2666520" y="365760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2286000" y="46479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2514600" y="434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2743200" y="441900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429000" y="10663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H="1" flipV="1">
              <a:off x="2666520" y="914040"/>
              <a:ext cx="762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23"/>
            <p:cNvSpPr/>
            <p:nvPr/>
          </p:nvSpPr>
          <p:spPr>
            <a:xfrm>
              <a:off x="2286000" y="5257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24"/>
            <p:cNvSpPr/>
            <p:nvPr/>
          </p:nvSpPr>
          <p:spPr>
            <a:xfrm>
              <a:off x="2819520" y="5638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25"/>
            <p:cNvSpPr/>
            <p:nvPr/>
          </p:nvSpPr>
          <p:spPr>
            <a:xfrm>
              <a:off x="2286000" y="6095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H="1">
              <a:off x="1828800" y="914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>
              <a:off x="1828800" y="129528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1828800" y="533376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2666880" y="556236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H="1">
              <a:off x="2666880" y="601956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>
              <a:off x="25146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Text Box 32"/>
          <p:cNvSpPr/>
          <p:nvPr/>
        </p:nvSpPr>
        <p:spPr>
          <a:xfrm>
            <a:off x="1205280" y="270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2881800" y="1108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2500560" y="19461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2500560" y="3165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2500560" y="56037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3962520" y="1143000"/>
            <a:ext cx="4876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lexidade Ciclomática V(G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5 regiões, V(G)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V(G)=P+1 = 4 +1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V(G) = 14 - 11 + 2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8"/>
          <p:cNvSpPr/>
          <p:nvPr/>
        </p:nvSpPr>
        <p:spPr>
          <a:xfrm>
            <a:off x="4191120" y="38862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(G) = número de caminhos independent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4093560" y="499104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) 1, 2, 3, 5, 7, 8, 2, 9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) 1, 2, 3, 4, 5, 7, 8, 2, 9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3) 1, 2, 3, 5, 6, 7, 8, 2, 9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4) 1, 2, 9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5) 1, 2, 9, 10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este de Caminho Bá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ve-se então elaborar casos de teste para executar cada um dos caminhos independ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sumo da Téc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enhe o grafo de fluxo de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ermine a complexidade ciclo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ermine os caminhos indepen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epara os casos de teste que executem cada um dos caminhos escolh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 Baseado em Fluxo de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 de nó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r que nós, isto é, comandos, de um programa P sejam exercitado pelo conjunto de casos de teste  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ério todos-os-nó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 de ramo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r que arcos de um programa P sejam exercitados pelo conjunto de casos de teste  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ério todos-os-ar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 de caminho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r que caminhos de um programa P sejam exercitados pelo conjunto de casos de teste  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 de caminhos bás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906840" y="1752480"/>
            <a:ext cx="2282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= 17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1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condition1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&amp;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p = 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condition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&amp;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p = 7 + 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53; p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x + y + 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3473280" y="1666800"/>
            <a:ext cx="2180880" cy="4610160"/>
            <a:chOff x="3473280" y="1666800"/>
            <a:chExt cx="2180880" cy="4610160"/>
          </a:xfrm>
        </p:grpSpPr>
        <p:sp>
          <p:nvSpPr>
            <p:cNvPr id="205" name="Line 6"/>
            <p:cNvSpPr/>
            <p:nvPr/>
          </p:nvSpPr>
          <p:spPr>
            <a:xfrm flipH="1">
              <a:off x="3695400" y="2101680"/>
              <a:ext cx="514440" cy="6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4381560" y="2101680"/>
              <a:ext cx="514440" cy="6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 flipH="1">
              <a:off x="4610160" y="3092400"/>
              <a:ext cx="342720" cy="6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5067360" y="3092400"/>
              <a:ext cx="342720" cy="66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610160" y="4192560"/>
              <a:ext cx="28584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 flipH="1">
              <a:off x="5067360" y="4192560"/>
              <a:ext cx="28584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H="1">
              <a:off x="4552560" y="5073480"/>
              <a:ext cx="343080" cy="7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3638520" y="3201840"/>
              <a:ext cx="0" cy="231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3638520" y="5513400"/>
              <a:ext cx="68580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Group 15"/>
            <p:cNvGrpSpPr/>
            <p:nvPr/>
          </p:nvGrpSpPr>
          <p:grpSpPr>
            <a:xfrm>
              <a:off x="3473280" y="2657520"/>
              <a:ext cx="352080" cy="538200"/>
              <a:chOff x="3473280" y="2657520"/>
              <a:chExt cx="352080" cy="538200"/>
            </a:xfrm>
          </p:grpSpPr>
          <p:sp>
            <p:nvSpPr>
              <p:cNvPr id="215" name="Oval 16"/>
              <p:cNvSpPr/>
              <p:nvPr/>
            </p:nvSpPr>
            <p:spPr>
              <a:xfrm>
                <a:off x="3473280" y="2657520"/>
                <a:ext cx="273240" cy="53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17"/>
              <p:cNvSpPr/>
              <p:nvPr/>
            </p:nvSpPr>
            <p:spPr>
              <a:xfrm>
                <a:off x="3512160" y="269568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8"/>
            <p:cNvGrpSpPr/>
            <p:nvPr/>
          </p:nvGrpSpPr>
          <p:grpSpPr>
            <a:xfrm>
              <a:off x="4159080" y="1666800"/>
              <a:ext cx="352080" cy="538200"/>
              <a:chOff x="4159080" y="1666800"/>
              <a:chExt cx="352080" cy="538200"/>
            </a:xfrm>
          </p:grpSpPr>
          <p:sp>
            <p:nvSpPr>
              <p:cNvPr id="218" name="Oval 19"/>
              <p:cNvSpPr/>
              <p:nvPr/>
            </p:nvSpPr>
            <p:spPr>
              <a:xfrm>
                <a:off x="4159080" y="1666800"/>
                <a:ext cx="273240" cy="53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20"/>
              <p:cNvSpPr/>
              <p:nvPr/>
            </p:nvSpPr>
            <p:spPr>
              <a:xfrm>
                <a:off x="4197960" y="17049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21"/>
            <p:cNvGrpSpPr/>
            <p:nvPr/>
          </p:nvGrpSpPr>
          <p:grpSpPr>
            <a:xfrm>
              <a:off x="4387680" y="3648240"/>
              <a:ext cx="352080" cy="537840"/>
              <a:chOff x="4387680" y="3648240"/>
              <a:chExt cx="352080" cy="537840"/>
            </a:xfrm>
          </p:grpSpPr>
          <p:sp>
            <p:nvSpPr>
              <p:cNvPr id="221" name="Oval 22"/>
              <p:cNvSpPr/>
              <p:nvPr/>
            </p:nvSpPr>
            <p:spPr>
              <a:xfrm>
                <a:off x="4387680" y="3648240"/>
                <a:ext cx="273240" cy="537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23"/>
              <p:cNvSpPr/>
              <p:nvPr/>
            </p:nvSpPr>
            <p:spPr>
              <a:xfrm>
                <a:off x="4426560" y="36860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24"/>
            <p:cNvGrpSpPr/>
            <p:nvPr/>
          </p:nvGrpSpPr>
          <p:grpSpPr>
            <a:xfrm>
              <a:off x="4844880" y="2657520"/>
              <a:ext cx="352080" cy="538200"/>
              <a:chOff x="4844880" y="2657520"/>
              <a:chExt cx="352080" cy="538200"/>
            </a:xfrm>
          </p:grpSpPr>
          <p:sp>
            <p:nvSpPr>
              <p:cNvPr id="224" name="Oval 25"/>
              <p:cNvSpPr/>
              <p:nvPr/>
            </p:nvSpPr>
            <p:spPr>
              <a:xfrm>
                <a:off x="4844880" y="2657520"/>
                <a:ext cx="273240" cy="53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26"/>
              <p:cNvSpPr/>
              <p:nvPr/>
            </p:nvSpPr>
            <p:spPr>
              <a:xfrm>
                <a:off x="4883760" y="269568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27"/>
            <p:cNvGrpSpPr/>
            <p:nvPr/>
          </p:nvGrpSpPr>
          <p:grpSpPr>
            <a:xfrm>
              <a:off x="5302080" y="3759120"/>
              <a:ext cx="352080" cy="536760"/>
              <a:chOff x="5302080" y="3759120"/>
              <a:chExt cx="352080" cy="536760"/>
            </a:xfrm>
          </p:grpSpPr>
          <p:sp>
            <p:nvSpPr>
              <p:cNvPr id="227" name="Oval 28"/>
              <p:cNvSpPr/>
              <p:nvPr/>
            </p:nvSpPr>
            <p:spPr>
              <a:xfrm>
                <a:off x="5302080" y="3759120"/>
                <a:ext cx="273240" cy="536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29"/>
              <p:cNvSpPr/>
              <p:nvPr/>
            </p:nvSpPr>
            <p:spPr>
              <a:xfrm>
                <a:off x="5340960" y="379584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30"/>
            <p:cNvGrpSpPr/>
            <p:nvPr/>
          </p:nvGrpSpPr>
          <p:grpSpPr>
            <a:xfrm>
              <a:off x="4330800" y="5740560"/>
              <a:ext cx="351720" cy="536400"/>
              <a:chOff x="4330800" y="5740560"/>
              <a:chExt cx="351720" cy="536400"/>
            </a:xfrm>
          </p:grpSpPr>
          <p:sp>
            <p:nvSpPr>
              <p:cNvPr id="230" name="Oval 31"/>
              <p:cNvSpPr/>
              <p:nvPr/>
            </p:nvSpPr>
            <p:spPr>
              <a:xfrm>
                <a:off x="4330800" y="5740560"/>
                <a:ext cx="272880" cy="536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32"/>
              <p:cNvSpPr/>
              <p:nvPr/>
            </p:nvSpPr>
            <p:spPr>
              <a:xfrm>
                <a:off x="4369320" y="577692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33"/>
            <p:cNvGrpSpPr/>
            <p:nvPr/>
          </p:nvGrpSpPr>
          <p:grpSpPr>
            <a:xfrm>
              <a:off x="4844880" y="4638600"/>
              <a:ext cx="352080" cy="538200"/>
              <a:chOff x="4844880" y="4638600"/>
              <a:chExt cx="352080" cy="538200"/>
            </a:xfrm>
          </p:grpSpPr>
          <p:sp>
            <p:nvSpPr>
              <p:cNvPr id="233" name="Oval 34"/>
              <p:cNvSpPr/>
              <p:nvPr/>
            </p:nvSpPr>
            <p:spPr>
              <a:xfrm>
                <a:off x="4844880" y="4638600"/>
                <a:ext cx="273240" cy="53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35"/>
              <p:cNvSpPr/>
              <p:nvPr/>
            </p:nvSpPr>
            <p:spPr>
              <a:xfrm>
                <a:off x="4883760" y="4676760"/>
                <a:ext cx="313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Group 36"/>
          <p:cNvGrpSpPr/>
          <p:nvPr/>
        </p:nvGrpSpPr>
        <p:grpSpPr>
          <a:xfrm>
            <a:off x="3238560" y="1990440"/>
            <a:ext cx="1085760" cy="4182840"/>
            <a:chOff x="3238560" y="1990440"/>
            <a:chExt cx="1085760" cy="4182840"/>
          </a:xfrm>
        </p:grpSpPr>
        <p:sp>
          <p:nvSpPr>
            <p:cNvPr id="236" name="Line 37"/>
            <p:cNvSpPr/>
            <p:nvPr/>
          </p:nvSpPr>
          <p:spPr>
            <a:xfrm flipH="1" flipV="1">
              <a:off x="3238560" y="5843160"/>
              <a:ext cx="108576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38"/>
            <p:cNvSpPr/>
            <p:nvPr/>
          </p:nvSpPr>
          <p:spPr>
            <a:xfrm flipV="1">
              <a:off x="3238560" y="2320560"/>
              <a:ext cx="0" cy="35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39"/>
            <p:cNvSpPr/>
            <p:nvPr/>
          </p:nvSpPr>
          <p:spPr>
            <a:xfrm flipV="1">
              <a:off x="3238560" y="1990440"/>
              <a:ext cx="91440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Text Box 41"/>
          <p:cNvSpPr/>
          <p:nvPr/>
        </p:nvSpPr>
        <p:spPr>
          <a:xfrm>
            <a:off x="5867280" y="2590920"/>
            <a:ext cx="3276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dos-os-cami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ão reve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cialmente infin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dos-os-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dos-os-nó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 Baseado em Fluxo de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ão se pode confiar em uma porção de software que nunca foi executada (exercitada)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que o Critério de Teste Todos-os-Arcos ao programa wordCount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nte o grafo de fluxo de controle para o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ste os arcos identifi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ie casos de teste para executar o maior número de arcos possíve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054240" y="1987560"/>
            <a:ext cx="1892520" cy="9777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914400" y="2590920"/>
            <a:ext cx="1663560" cy="825480"/>
            <a:chOff x="914400" y="2590920"/>
            <a:chExt cx="1663560" cy="825480"/>
          </a:xfrm>
        </p:grpSpPr>
        <p:sp>
          <p:nvSpPr>
            <p:cNvPr id="247" name="Rectangle 5"/>
            <p:cNvSpPr/>
            <p:nvPr/>
          </p:nvSpPr>
          <p:spPr>
            <a:xfrm>
              <a:off x="914400" y="2590920"/>
              <a:ext cx="1663560" cy="825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1117080" y="2614680"/>
              <a:ext cx="11772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gr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Rectangle 7"/>
          <p:cNvSpPr/>
          <p:nvPr/>
        </p:nvSpPr>
        <p:spPr>
          <a:xfrm>
            <a:off x="5797440" y="1987560"/>
            <a:ext cx="1435320" cy="9777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103200" y="2087640"/>
            <a:ext cx="1745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fo de Flu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C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2368440" y="3892680"/>
            <a:ext cx="1739880" cy="9014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4959360" y="3816360"/>
            <a:ext cx="1816200" cy="977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5848200" y="2087640"/>
            <a:ext cx="119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fo-d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2418480" y="3992400"/>
            <a:ext cx="16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men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5469480" y="4068720"/>
            <a:ext cx="76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 flipV="1">
            <a:off x="2590920" y="243792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1371600" y="3429000"/>
            <a:ext cx="9907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4114800" y="42670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POKE-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rramenta de apoio à aplicação dos critéri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otencia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s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rrament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ultilinguage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versões para as linguagens C, COBOL, Clipper e Fortr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de o seu projeto: preocupação co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inguagens rea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POKE-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imei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erramenta para a linguagem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KE-TOOL versão MS-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rientada par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ss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trab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m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por ve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trata definições e usos através de ponteir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ta passagem 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râmetr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or refer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 de Teste 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m informação derivada d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o do progra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adas na estrutur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softwa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inir um conjunto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men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progra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ere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t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cobertos”) pelos casos de te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POKE-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KE-TOOL versã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crip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aten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s módulos da versão MS-DOS através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ári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unções de uma única ve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KE-TOOL versã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view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mite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isualiz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o grafo de cham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lementada com o pacot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cl/tk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"/>
          <p:cNvGraphicFramePr/>
          <p:nvPr/>
        </p:nvGraphicFramePr>
        <p:xfrm>
          <a:off x="1523880" y="2743200"/>
          <a:ext cx="563904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743200"/>
                    <a:ext cx="5639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990720" y="1828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POKE-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990720" y="6172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pções disponíveis na ferramenta POKE-T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2362320" y="2743200"/>
          <a:ext cx="464796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46479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066680" y="19810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POKE-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600200" y="61722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Tela para criar uma sessão de teste na POKE-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Object 2"/>
          <p:cNvGraphicFramePr/>
          <p:nvPr/>
        </p:nvGraphicFramePr>
        <p:xfrm>
          <a:off x="762120" y="2514600"/>
          <a:ext cx="7848360" cy="354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14600"/>
                    <a:ext cx="78483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762120" y="19051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 POKE-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981080" y="6248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latórios gerados pela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POKE-TOO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rcí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fina os componentes de uma ferramenta de software que seja capaz de implementar o critério Todos-os-Nó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seiam-se num minucioso exame dos detalhes de implemen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ão testados caminhos lógicos no software fornecendo-se casos de teste que exercitam condições, laços e outros detalh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m ser derivados casos de teste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arantam que todos os caminhos independentes dentro de um módulo tenham sido exercitados pelo menos uma vez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ercitem todas as decisões lógicas para valores falsos e verdadei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ecutem todos os laços em suas fronteiras e dentro de seus limites operacion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ercitem as estruturas de dados internas para garantir a sua val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ercitem associações específicas entre definições e usos de variáve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21"/>
          <p:cNvSpPr/>
          <p:nvPr/>
        </p:nvSpPr>
        <p:spPr>
          <a:xfrm>
            <a:off x="1523880" y="4114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Teste de Caminho Bá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a como modelo um Grafo de Fluxo de Cont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rresponde a uma notação onde cada bloco de comandos é representado por um nó e os arcos são as transferências de controle entre os blo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7"/>
          <p:cNvSpPr/>
          <p:nvPr/>
        </p:nvSpPr>
        <p:spPr>
          <a:xfrm>
            <a:off x="137160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9"/>
          <p:cNvSpPr/>
          <p:nvPr/>
        </p:nvSpPr>
        <p:spPr>
          <a:xfrm>
            <a:off x="3429000" y="4800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342900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6934320" y="5791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502920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 flipH="1">
            <a:off x="1142640" y="40384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1143000" y="49528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4"/>
          <p:cNvSpPr/>
          <p:nvPr/>
        </p:nvSpPr>
        <p:spPr>
          <a:xfrm>
            <a:off x="1371600" y="3962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5"/>
          <p:cNvSpPr/>
          <p:nvPr/>
        </p:nvSpPr>
        <p:spPr>
          <a:xfrm>
            <a:off x="990720" y="4800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3"/>
          <p:cNvSpPr/>
          <p:nvPr/>
        </p:nvSpPr>
        <p:spPr>
          <a:xfrm flipH="1">
            <a:off x="1523520" y="4876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35053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5"/>
          <p:cNvSpPr/>
          <p:nvPr/>
        </p:nvSpPr>
        <p:spPr>
          <a:xfrm flipV="1">
            <a:off x="3657600" y="46479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39625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 flipH="1" flipV="1">
            <a:off x="3657240" y="4038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 flipH="1">
            <a:off x="3048120" y="3962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>
            <a:off x="3048120" y="4267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304812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429000" y="3886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2"/>
          <p:cNvSpPr/>
          <p:nvPr/>
        </p:nvSpPr>
        <p:spPr>
          <a:xfrm flipV="1">
            <a:off x="5257800" y="44953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3"/>
          <p:cNvSpPr/>
          <p:nvPr/>
        </p:nvSpPr>
        <p:spPr>
          <a:xfrm flipV="1">
            <a:off x="54864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4"/>
          <p:cNvSpPr/>
          <p:nvPr/>
        </p:nvSpPr>
        <p:spPr>
          <a:xfrm flipH="1" flipV="1">
            <a:off x="5257440" y="39621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>
            <a:off x="518148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1"/>
          <p:cNvSpPr/>
          <p:nvPr/>
        </p:nvSpPr>
        <p:spPr>
          <a:xfrm>
            <a:off x="5105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7"/>
          <p:cNvSpPr/>
          <p:nvPr/>
        </p:nvSpPr>
        <p:spPr>
          <a:xfrm>
            <a:off x="5029200" y="4800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6"/>
          <p:cNvSpPr/>
          <p:nvPr/>
        </p:nvSpPr>
        <p:spPr>
          <a:xfrm>
            <a:off x="1676520" y="4800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6"/>
          <p:cNvSpPr/>
          <p:nvPr/>
        </p:nvSpPr>
        <p:spPr>
          <a:xfrm>
            <a:off x="70866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41"/>
          <p:cNvSpPr/>
          <p:nvPr/>
        </p:nvSpPr>
        <p:spPr>
          <a:xfrm>
            <a:off x="7086600" y="38862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2"/>
          <p:cNvSpPr/>
          <p:nvPr/>
        </p:nvSpPr>
        <p:spPr>
          <a:xfrm>
            <a:off x="6400800" y="49528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3"/>
          <p:cNvSpPr/>
          <p:nvPr/>
        </p:nvSpPr>
        <p:spPr>
          <a:xfrm>
            <a:off x="7010280" y="4952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44"/>
          <p:cNvSpPr/>
          <p:nvPr/>
        </p:nvSpPr>
        <p:spPr>
          <a:xfrm flipH="1">
            <a:off x="7086240" y="48769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H="1">
            <a:off x="6476760" y="38862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6248520" y="4800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6934320" y="4800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5"/>
          <p:cNvSpPr/>
          <p:nvPr/>
        </p:nvSpPr>
        <p:spPr>
          <a:xfrm>
            <a:off x="7620120" y="4724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1"/>
          <p:cNvSpPr/>
          <p:nvPr/>
        </p:nvSpPr>
        <p:spPr>
          <a:xfrm>
            <a:off x="6934320" y="3809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5"/>
          <p:cNvSpPr/>
          <p:nvPr/>
        </p:nvSpPr>
        <p:spPr>
          <a:xfrm>
            <a:off x="976320" y="598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6"/>
          <p:cNvSpPr/>
          <p:nvPr/>
        </p:nvSpPr>
        <p:spPr>
          <a:xfrm>
            <a:off x="3186000" y="59086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7"/>
          <p:cNvSpPr/>
          <p:nvPr/>
        </p:nvSpPr>
        <p:spPr>
          <a:xfrm>
            <a:off x="4787280" y="590868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8"/>
          <p:cNvSpPr/>
          <p:nvPr/>
        </p:nvSpPr>
        <p:spPr>
          <a:xfrm>
            <a:off x="6692400" y="60609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0"/>
            <a:ext cx="89154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ction percorreAluno(nomeAluno : str40; mostra : boolean)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r i : integer; achou : boolean;  p : pRegDi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: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chou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while((NOT(achou))AND(i&lt;=nAlunos))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(nomeAluno=vetAlunos[i].nome)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chou:=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(mostra)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writeln('Nome: ',vetAlunos[i].no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writeln('RA: ',vetAlunos[i].R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:=percorreDisciplina('',i,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rcorreAluno: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(NOT(achou))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rcorreAluno:=(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04920" y="9907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590920" y="533160"/>
            <a:ext cx="434340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1523880"/>
            <a:ext cx="5029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5029200" y="1218960"/>
            <a:ext cx="190512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04920" y="1905120"/>
            <a:ext cx="4495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 flipV="1">
            <a:off x="4800600" y="1904760"/>
            <a:ext cx="220968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838080" y="2743200"/>
            <a:ext cx="1524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2362320" y="2514600"/>
            <a:ext cx="5181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33520" y="3124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V="1">
            <a:off x="2286000" y="3123720"/>
            <a:ext cx="472428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80880" y="3429000"/>
            <a:ext cx="47246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2"/>
          <p:cNvSpPr/>
          <p:nvPr/>
        </p:nvSpPr>
        <p:spPr>
          <a:xfrm flipV="1">
            <a:off x="5105520" y="3733920"/>
            <a:ext cx="2438280" cy="241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28600" y="49528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5"/>
          <p:cNvSpPr/>
          <p:nvPr/>
        </p:nvSpPr>
        <p:spPr>
          <a:xfrm>
            <a:off x="1143000" y="5105520"/>
            <a:ext cx="586728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71"/>
          <p:cNvGrpSpPr/>
          <p:nvPr/>
        </p:nvGrpSpPr>
        <p:grpSpPr>
          <a:xfrm>
            <a:off x="6629400" y="304920"/>
            <a:ext cx="1600200" cy="6553080"/>
            <a:chOff x="6629400" y="304920"/>
            <a:chExt cx="1600200" cy="6553080"/>
          </a:xfrm>
        </p:grpSpPr>
        <p:sp>
          <p:nvSpPr>
            <p:cNvPr id="115" name="Oval 5"/>
            <p:cNvSpPr/>
            <p:nvPr/>
          </p:nvSpPr>
          <p:spPr>
            <a:xfrm>
              <a:off x="7086600" y="304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7086600" y="914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7315200" y="762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3"/>
            <p:cNvSpPr/>
            <p:nvPr/>
          </p:nvSpPr>
          <p:spPr>
            <a:xfrm>
              <a:off x="7086600" y="1600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>
              <a:off x="731520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Oval 17"/>
            <p:cNvSpPr/>
            <p:nvPr/>
          </p:nvSpPr>
          <p:spPr>
            <a:xfrm>
              <a:off x="7620120" y="2286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8"/>
            <p:cNvSpPr/>
            <p:nvPr/>
          </p:nvSpPr>
          <p:spPr>
            <a:xfrm>
              <a:off x="7467480" y="19810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7086600" y="28954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22"/>
            <p:cNvSpPr/>
            <p:nvPr/>
          </p:nvSpPr>
          <p:spPr>
            <a:xfrm>
              <a:off x="7315200" y="2057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3"/>
            <p:cNvSpPr/>
            <p:nvPr/>
          </p:nvSpPr>
          <p:spPr>
            <a:xfrm flipH="1">
              <a:off x="7467120" y="26668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7620120" y="3581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7467480" y="32767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26"/>
            <p:cNvSpPr/>
            <p:nvPr/>
          </p:nvSpPr>
          <p:spPr>
            <a:xfrm>
              <a:off x="7086600" y="4191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7315200" y="335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8"/>
            <p:cNvSpPr/>
            <p:nvPr/>
          </p:nvSpPr>
          <p:spPr>
            <a:xfrm flipH="1">
              <a:off x="7467120" y="3962520"/>
              <a:ext cx="2286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33"/>
            <p:cNvSpPr/>
            <p:nvPr/>
          </p:nvSpPr>
          <p:spPr>
            <a:xfrm>
              <a:off x="7086600" y="4952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37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38"/>
            <p:cNvSpPr/>
            <p:nvPr/>
          </p:nvSpPr>
          <p:spPr>
            <a:xfrm flipV="1">
              <a:off x="7543800" y="4723920"/>
              <a:ext cx="6858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39"/>
            <p:cNvSpPr/>
            <p:nvPr/>
          </p:nvSpPr>
          <p:spPr>
            <a:xfrm flipV="1">
              <a:off x="8229600" y="137124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40"/>
            <p:cNvSpPr/>
            <p:nvPr/>
          </p:nvSpPr>
          <p:spPr>
            <a:xfrm flipH="1" flipV="1">
              <a:off x="7467120" y="1218960"/>
              <a:ext cx="762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41"/>
            <p:cNvSpPr/>
            <p:nvPr/>
          </p:nvSpPr>
          <p:spPr>
            <a:xfrm>
              <a:off x="7086600" y="5562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42"/>
            <p:cNvSpPr/>
            <p:nvPr/>
          </p:nvSpPr>
          <p:spPr>
            <a:xfrm>
              <a:off x="7620120" y="59436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43"/>
            <p:cNvSpPr/>
            <p:nvPr/>
          </p:nvSpPr>
          <p:spPr>
            <a:xfrm>
              <a:off x="7086600" y="6400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44"/>
            <p:cNvSpPr/>
            <p:nvPr/>
          </p:nvSpPr>
          <p:spPr>
            <a:xfrm flipH="1">
              <a:off x="6629400" y="1219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45"/>
            <p:cNvSpPr/>
            <p:nvPr/>
          </p:nvSpPr>
          <p:spPr>
            <a:xfrm>
              <a:off x="6629400" y="160020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>
              <a:off x="6629400" y="5638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7"/>
            <p:cNvSpPr/>
            <p:nvPr/>
          </p:nvSpPr>
          <p:spPr>
            <a:xfrm>
              <a:off x="7467480" y="586728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8"/>
            <p:cNvSpPr/>
            <p:nvPr/>
          </p:nvSpPr>
          <p:spPr>
            <a:xfrm flipH="1">
              <a:off x="7467480" y="632448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49"/>
            <p:cNvSpPr/>
            <p:nvPr/>
          </p:nvSpPr>
          <p:spPr>
            <a:xfrm>
              <a:off x="7315200" y="6019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Rectangle 50"/>
          <p:cNvSpPr/>
          <p:nvPr/>
        </p:nvSpPr>
        <p:spPr>
          <a:xfrm>
            <a:off x="304920" y="5257800"/>
            <a:ext cx="2438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51"/>
          <p:cNvSpPr/>
          <p:nvPr/>
        </p:nvSpPr>
        <p:spPr>
          <a:xfrm>
            <a:off x="2743200" y="5562720"/>
            <a:ext cx="380988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2743200" y="6019920"/>
            <a:ext cx="4648320" cy="152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4"/>
          <p:cNvSpPr/>
          <p:nvPr/>
        </p:nvSpPr>
        <p:spPr>
          <a:xfrm>
            <a:off x="457200" y="579132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3"/>
          <p:cNvSpPr/>
          <p:nvPr/>
        </p:nvSpPr>
        <p:spPr>
          <a:xfrm>
            <a:off x="914400" y="6324480"/>
            <a:ext cx="601992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0" y="6095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7"/>
          <p:cNvSpPr/>
          <p:nvPr/>
        </p:nvSpPr>
        <p:spPr>
          <a:xfrm>
            <a:off x="533520" y="46483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68"/>
          <p:cNvSpPr/>
          <p:nvPr/>
        </p:nvSpPr>
        <p:spPr>
          <a:xfrm flipV="1">
            <a:off x="1447920" y="4495320"/>
            <a:ext cx="556236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 de Teste 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fo de progra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um programa P, é 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fo dirigi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= (N, E, I, e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é o conjunto de nós, um n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a um bloco de comandos de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é o conjunto de ramos (arcos), um ram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a uma transferência de controle entre blo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é o único nó de entrada; e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é o único nó de saí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 DE  SOFTW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 de Teste E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es básicos de um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ó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ência de comandos do program (bloco), sem arcos de entrada ou de saí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o (ramo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ência de controle entre blo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minh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ência finita de nó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ç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ência de nós onde o primeiro = últi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ó predicad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ó contendo uma condição que afeta o fluxo de controle do pro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xo de dad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ção ou caminho entre definição e uso de variáv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aminhos Independ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lquer caminho através do programa que introduza pelo menos um novo conjunto de instruções de processamento ou uma nova condi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número de regiões no grafo de fluxo de controle define o número de caminhos independ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número de regiões pode ser definido pelo cálculo da complexidade ciclomá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13:29:59Z</dcterms:created>
  <dc:creator>jino</dc:creator>
  <dc:description/>
  <dc:language>en-US</dc:language>
  <cp:lastModifiedBy>nc02-prof</cp:lastModifiedBy>
  <cp:lastPrinted>1999-03-24T15:00:24Z</cp:lastPrinted>
  <dcterms:modified xsi:type="dcterms:W3CDTF">2012-05-09T11:42:51Z</dcterms:modified>
  <cp:revision>16</cp:revision>
  <dc:subject/>
  <dc:title>TESTE  DE  SOFTWARE</dc:title>
</cp:coreProperties>
</file>